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31.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32030-B51F-44BC-BC9F-BEF7CCAE5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F95C7-3117-40A9-A42E-83AE39915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1783E-D8E7-40EB-8C1E-6AAF9373F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se drug events, which are defined as injury due to a medication, are very common. They affect approximately 10% of patients during hospitalization and 15% of patients during the first few weeks after hospital dis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the medication history that health care providers take from patients are an important contributor to adverse drug events. These errors account for up to 75% of all potentially harmful medication discrepancies in admission and discharge or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the history can lead to patients receiving the wrong medications. Taking a good medication history is therefore not just a regulatory requirement; it is important for improving medication safety during transitions of care.</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A6C35-A0FE-4B0A-B692-5BED8B912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8CE3F-C041-4E0A-A93A-376A8AE4E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735E2-C009-47C7-B472-BA38D8000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245CC-C617-42F6-B01B-1535E50E0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ite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he QI team at this 535-bed community non-teaching hospital associated with a large regional healthcare system is led by the Vice President for Clinical Improvement, with other members of the team including hospitalists, clinical pharmacists, nurses, and the on-site study pharmacist.  Their initial intervention targets included training in taking a BPMH and good discharge medication education as well as giving feedback to providers on the quality of their medication histor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o date, progress has been made in 4 area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PMH training: BPMH training video and pocket cards are used by nursing and pharmacy staff on target units to perform medication histories for patients who are directly admitted, transferred from other hospitals, or admitted on weekend nights.  This complements a pre-existing initiative that utilizes pharmacy technicians, called Medication Reconciliation Assistants (MRAs), to take medication histories for all ED patients admitted during the week and weekend day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isk stratification: Development of an automated screening tool to identify high-risk patients and having clinical pharmacists attend daily discharge rounds to determine which patients require high-intensity discharge educat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igh-intensity bundle in high-risk patients: Plans are in place to formally train a cohort of clinical pharmacists and discharging providers to provide high-intensity discharge education for high-risk patients .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ischarge education:  The discharge education training video was placed on the organization’s intranet to complement existing education modules on “teach back” and “Ask Me 3,” a patient education program designed to promote communication between patients and clinicians.</a:t>
            </a:r>
            <a:r>
              <a:rPr b="0" lang="en-US" sz="700" spc="-1" strike="noStrike" baseline="30000">
                <a:solidFill>
                  <a:srgbClr val="000000"/>
                </a:solidFill>
                <a:latin typeface="Calibri"/>
              </a:rPr>
              <a:t>35</a:t>
            </a:r>
            <a:r>
              <a:rPr b="0" lang="en-US" sz="700" spc="-1" strike="noStrike">
                <a:solidFill>
                  <a:srgbClr val="000000"/>
                </a:solidFill>
                <a:latin typeface="Calibri"/>
              </a:rPr>
              <a:t> Clinical pharmacists can now flag high-risk patients for intensive discharge counseling in their workflow database and see which high-risk patients have received in-hospital intensive counseling and which have not. This complements an existing program which provides post-discharge counseling by phone for a subset of patients (e.g., older patients with a PCP within a particular provider group, discharged home, referred to the program, or on multiple or high-risk medications) run by the regional healthcare system.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Key factors promoting success include the dedication of the QI team leader and on-site study pharmacist, full support from the leadership of the regional healthcare system, and integration of the intervention components with previously adopted site initiatives, such as the use of MRAs and the post-discharge education program for high-risk patients.  Barriers have included a smaller QI team to lead intervention efforts, difficulty in engaging front-line staff, limited availability of MRAs on weekend nights and for patients not admitted through the ED (and over-reliance on MRAs even for patients in whom they are not available), lack of access to administrative data to help guide next steps, and lack of educators trained in the use of teach back.</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s with Site 1, several lessons have been learned.  Progress at Site 2 has been somewhat slower with less engagement from front line providers and a smaller QI team.  Across both sites, our experience confirmed the important QI principle that education itself is not sufficient to change behavior to achieve best practice; certification of competency is required.  A need for site-specific data to help make the case to front-line providers is also essential for ongoing engagement with the improvement effort, and is now a goal of the central data analysis team.  For example, Site 2 needed to know medication discrepancy rates among patients not affected by MRAs (e.g., weekend night admissions, direct admissions) compared with other patient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How does this relate to what is mentioned above for risk stratification? Are different people being trained to replace the pharmacists doing it n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eff Schnipper: John and Jason, can you answer this quest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ason: it’s a human resource allocation relationship, extending the responsibility to hospitalists rather than replacing pharmacists; specifically for the high risk patients not qualifying to receive discharge counseling from the existing post-discharge program (SafeMed) the work would have to be allocated across the clinical pharmacists and discharging hospitalists (both of which would be learners in a formal training progra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6D925-4B73-487F-A729-F4748E2C2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ite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he QI team at this 535-bed community non-teaching hospital associated with a large regional healthcare system is led by the Vice President for Clinical Improvement, with other members of the team including hospitalists, clinical pharmacists, nurses, and the on-site study pharmacist.  Their initial intervention targets included training in taking a BPMH and good discharge medication education as well as giving feedback to providers on the quality of their medication histor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o date, progress has been made in 4 area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PMH training: BPMH training video and pocket cards are used by nursing and pharmacy staff on target units to perform medication histories for patients who are directly admitted, transferred from other hospitals, or admitted on weekend nights.  This complements a pre-existing initiative that utilizes pharmacy technicians, called Medication Reconciliation Assistants (MRAs), to take medication histories for all ED patients admitted during the week and weekend day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isk stratification: Development of an automated screening tool to identify high-risk patients and having clinical pharmacists attend daily discharge rounds to determine which patients require high-intensity discharge educat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igh-intensity bundle in high-risk patients: Plans are in place to formally train a cohort of clinical pharmacists and discharging providers to provide high-intensity discharge education for high-risk patients .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ischarge education:  The discharge education training video was placed on the organization’s intranet to complement existing education modules on “teach back” and “Ask Me 3,” a patient education program designed to promote communication between patients and clinicians.</a:t>
            </a:r>
            <a:r>
              <a:rPr b="0" lang="en-US" sz="700" spc="-1" strike="noStrike" baseline="30000">
                <a:solidFill>
                  <a:srgbClr val="000000"/>
                </a:solidFill>
                <a:latin typeface="Calibri"/>
              </a:rPr>
              <a:t>35</a:t>
            </a:r>
            <a:r>
              <a:rPr b="0" lang="en-US" sz="700" spc="-1" strike="noStrike">
                <a:solidFill>
                  <a:srgbClr val="000000"/>
                </a:solidFill>
                <a:latin typeface="Calibri"/>
              </a:rPr>
              <a:t> Clinical pharmacists can now flag high-risk patients for intensive discharge counseling in their workflow database and see which high-risk patients have received in-hospital intensive counseling and which have not. This complements an existing program which provides post-discharge counseling by phone for a subset of patients (e.g., older patients with a PCP within a particular provider group, discharged home, referred to the program, or on multiple or high-risk medications) run by the regional healthcare system.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Key factors promoting success include the dedication of the QI team leader and on-site study pharmacist, full support from the leadership of the regional healthcare system, and integration of the intervention components with previously adopted site initiatives, such as the use of MRAs and the post-discharge education program for high-risk patients.  Barriers have included a smaller QI team to lead intervention efforts, difficulty in engaging front-line staff, limited availability of MRAs on weekend nights and for patients not admitted through the ED (and over-reliance on MRAs even for patients in whom they are not available), lack of access to administrative data to help guide next steps, and lack of educators trained in the use of teach back.</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s with Site 1, several lessons have been learned.  Progress at Site 2 has been somewhat slower with less engagement from front line providers and a smaller QI team.  Across both sites, our experience confirmed the important QI principle that education itself is not sufficient to change behavior to achieve best practice; certification of competency is required.  A need for site-specific data to help make the case to front-line providers is also essential for ongoing engagement with the improvement effort, and is now a goal of the central data analysis team.  For example, Site 2 needed to know medication discrepancy rates among patients not affected by MRAs (e.g., weekend night admissions, direct admissions) compared with other patient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How does this relate to what is mentioned above for risk stratification? Are different people being trained to replace the pharmacists doing it n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eff Schnipper: John and Jason, can you answer this quest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ason: it’s a human resource allocation relationship, extending the responsibility to hospitalists rather than replacing pharmacists; specifically for the high risk patients not qualifying to receive discharge counseling from the existing post-discharge program (SafeMed) the work would have to be allocated across the clinical pharmacists and discharging hospitalists (both of which would be learners in a formal training progra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891D0-BFB5-4D13-BBF4-86F6A2987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ite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he QI team at this 535-bed community non-teaching hospital associated with a large regional healthcare system is led by the Vice President for Clinical Improvement, with other members of the team including hospitalists, clinical pharmacists, nurses, and the on-site study pharmacist.  Their initial intervention targets included training in taking a BPMH and good discharge medication education as well as giving feedback to providers on the quality of their medication histor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o date, progress has been made in 4 area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PMH training: BPMH training video and pocket cards are used by nursing and pharmacy staff on target units to perform medication histories for patients who are directly admitted, transferred from other hospitals, or admitted on weekend nights.  This complements a pre-existing initiative that utilizes pharmacy technicians, called Medication Reconciliation Assistants (MRAs), to take medication histories for all ED patients admitted during the week and weekend day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isk stratification: Development of an automated screening tool to identify high-risk patients and having clinical pharmacists attend daily discharge rounds to determine which patients require high-intensity discharge educat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igh-intensity bundle in high-risk patients: Plans are in place to formally train a cohort of clinical pharmacists and discharging providers to provide high-intensity discharge education for high-risk patients .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ischarge education:  The discharge education training video was placed on the organization’s intranet to complement existing education modules on “teach back” and “Ask Me 3,” a patient education program designed to promote communication between patients and clinicians.</a:t>
            </a:r>
            <a:r>
              <a:rPr b="0" lang="en-US" sz="700" spc="-1" strike="noStrike" baseline="30000">
                <a:solidFill>
                  <a:srgbClr val="000000"/>
                </a:solidFill>
                <a:latin typeface="Calibri"/>
              </a:rPr>
              <a:t>35</a:t>
            </a:r>
            <a:r>
              <a:rPr b="0" lang="en-US" sz="700" spc="-1" strike="noStrike">
                <a:solidFill>
                  <a:srgbClr val="000000"/>
                </a:solidFill>
                <a:latin typeface="Calibri"/>
              </a:rPr>
              <a:t> Clinical pharmacists can now flag high-risk patients for intensive discharge counseling in their workflow database and see which high-risk patients have received in-hospital intensive counseling and which have not. This complements an existing program which provides post-discharge counseling by phone for a subset of patients (e.g., older patients with a PCP within a particular provider group, discharged home, referred to the program, or on multiple or high-risk medications) run by the regional healthcare system.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Key factors promoting success include the dedication of the QI team leader and on-site study pharmacist, full support from the leadership of the regional healthcare system, and integration of the intervention components with previously adopted site initiatives, such as the use of MRAs and the post-discharge education program for high-risk patients.  Barriers have included a smaller QI team to lead intervention efforts, difficulty in engaging front-line staff, limited availability of MRAs on weekend nights and for patients not admitted through the ED (and over-reliance on MRAs even for patients in whom they are not available), lack of access to administrative data to help guide next steps, and lack of educators trained in the use of teach back.</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s with Site 1, several lessons have been learned.  Progress at Site 2 has been somewhat slower with less engagement from front line providers and a smaller QI team.  Across both sites, our experience confirmed the important QI principle that education itself is not sufficient to change behavior to achieve best practice; certification of competency is required.  A need for site-specific data to help make the case to front-line providers is also essential for ongoing engagement with the improvement effort, and is now a goal of the central data analysis team.  For example, Site 2 needed to know medication discrepancy rates among patients not affected by MRAs (e.g., weekend night admissions, direct admissions) compared with other patient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How does this relate to what is mentioned above for risk stratification? Are different people being trained to replace the pharmacists doing it n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eff Schnipper: John and Jason, can you answer this quest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ason: it’s a human resource allocation relationship, extending the responsibility to hospitalists rather than replacing pharmacists; specifically for the high risk patients not qualifying to receive discharge counseling from the existing post-discharge program (SafeMed) the work would have to be allocated across the clinical pharmacists and discharging hospitalists (both of which would be learners in a formal training progra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A933F-53EF-44FE-8777-8B821FEF6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ite 2</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The QI team at this 535-bed community non-teaching hospital associated with a large regional healthcare system is led by the Vice President for Clinical Improvement, with other members of the team including hospitalists, clinical pharmacists, nurses, and the on-site study pharmacist.  Their initial intervention targets included training in taking a BPMH and good discharge medication education as well as giving feedback to providers on the quality of their medication histor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o date, progress has been made in 4 area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PMH training: BPMH training video and pocket cards are used by nursing and pharmacy staff on target units to perform medication histories for patients who are directly admitted, transferred from other hospitals, or admitted on weekend nights.  This complements a pre-existing initiative that utilizes pharmacy technicians, called Medication Reconciliation Assistants (MRAs), to take medication histories for all ED patients admitted during the week and weekend day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isk stratification: Development of an automated screening tool to identify high-risk patients and having clinical pharmacists attend daily discharge rounds to determine which patients require high-intensity discharge educat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igh-intensity bundle in high-risk patients: Plans are in place to formally train a cohort of clinical pharmacists and discharging providers to provide high-intensity discharge education for high-risk patients .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ischarge education:  The discharge education training video was placed on the organization’s intranet to complement existing education modules on “teach back” and “Ask Me 3,” a patient education program designed to promote communication between patients and clinicians.</a:t>
            </a:r>
            <a:r>
              <a:rPr b="0" lang="en-US" sz="700" spc="-1" strike="noStrike" baseline="30000">
                <a:solidFill>
                  <a:srgbClr val="000000"/>
                </a:solidFill>
                <a:latin typeface="Calibri"/>
              </a:rPr>
              <a:t>35</a:t>
            </a:r>
            <a:r>
              <a:rPr b="0" lang="en-US" sz="700" spc="-1" strike="noStrike">
                <a:solidFill>
                  <a:srgbClr val="000000"/>
                </a:solidFill>
                <a:latin typeface="Calibri"/>
              </a:rPr>
              <a:t> Clinical pharmacists can now flag high-risk patients for intensive discharge counseling in their workflow database and see which high-risk patients have received in-hospital intensive counseling and which have not. This complements an existing program which provides post-discharge counseling by phone for a subset of patients (e.g., older patients with a PCP within a particular provider group, discharged home, referred to the program, or on multiple or high-risk medications) run by the regional healthcare system.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Key factors promoting success include the dedication of the QI team leader and on-site study pharmacist, full support from the leadership of the regional healthcare system, and integration of the intervention components with previously adopted site initiatives, such as the use of MRAs and the post-discharge education program for high-risk patients.  Barriers have included a smaller QI team to lead intervention efforts, difficulty in engaging front-line staff, limited availability of MRAs on weekend nights and for patients not admitted through the ED (and over-reliance on MRAs even for patients in whom they are not available), lack of access to administrative data to help guide next steps, and lack of educators trained in the use of teach back.</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s with Site 1, several lessons have been learned.  Progress at Site 2 has been somewhat slower with less engagement from front line providers and a smaller QI team.  Across both sites, our experience confirmed the important QI principle that education itself is not sufficient to change behavior to achieve best practice; certification of competency is required.  A need for site-specific data to help make the case to front-line providers is also essential for ongoing engagement with the improvement effort, and is now a goal of the central data analysis team.  For example, Site 2 needed to know medication discrepancy rates among patients not affected by MRAs (e.g., weekend night admissions, direct admissions) compared with other patient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How does this relate to what is mentioned above for risk stratification? Are different people being trained to replace the pharmacists doing it no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eff Schnipper: John and Jason, can you answer this questio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ason: it’s a human resource allocation relationship, extending the responsibility to hospitalists rather than replacing pharmacists; specifically for the high risk patients not qualifying to receive discharge counseling from the existing post-discharge program (SafeMed) the work would have to be allocated across the clinical pharmacists and discharging hospitalists (both of which would be learners in a formal training progra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E8D81-FFEE-46F0-86D9-BE3B69C41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1BAC7A-2BF6-41A3-B24D-C3786A20C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A2AF5-5052-4F3D-B8DF-AF25145D4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AB18C-D42C-4BAE-88C8-FE436EE5D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869EF-A8A9-4481-B4EA-478515E6B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04EB8-676C-4A7B-A5A9-722C932DF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1138B-141E-499F-B425-BFB16266C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D2E36-2053-43FB-B10F-C143B6041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E3AEB-E04D-4945-A142-B7A74CDC8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87D5C-6411-426E-B47F-D07BA96B7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93114-3EBD-4774-AFA2-DEAF888F5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A1E56-7CC4-44EB-8C31-626EE8C50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2F39D-BFD8-4267-9F65-E9E985DA9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8EA2B-42B7-44B1-AADD-AE078910F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5D8E5-3CD8-45F7-9241-DD915AB7F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C3461-5028-438C-99E1-3B526535F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4B282-1BE1-4E02-9AE4-1624CE139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39072-40D7-4C95-882D-3CB516F8F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4539C-9428-4225-BF9D-F84EC5C61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6E7C1-F2CA-4756-95EB-3E0C4C071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12844-455C-4D4F-9283-B7D1EFD34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15A65-9B01-4C6D-80CF-B42C22E90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79CE3-886C-4588-9918-282426071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735F5-98F2-41FC-AEF8-FFB2126B2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4A8E4-2323-4C19-8186-67386DA21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8B44E-CBB5-4103-BF65-628EF48A3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46D11-1F5E-4545-9EB3-196059272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B1593-D0BA-4EE0-BCE3-63862FF6F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D46E9-2166-4EDA-9C09-BDD44709B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E2597-C87E-4ADE-A0D4-437C5491D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45C0C-C7D2-46FA-8400-D74861607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18C57-328C-4CE3-A4FA-83F6353BF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lostomy done to prevent decubs</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FFF7D-4199-4AFF-94F8-BB0087074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a good medication history is to obtain complete information on the patient’s regimen, including the name of each medication, the formulation, the dosage, route, and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also distinguish between what patients are supposed to be on vs. what they actually take.</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1D589-AABB-4C4D-A9E0-4EF0B5205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medication history also ideally includes other aspects of the medication regimen, such as the indications for each drug. It is helpful to know about any recent changes in the regimen, including drugs that were recently stopped, started, or prescribed for a short course, such as antibiotics. Over-the-counter drugs, samples, vitamins, herbals, and other products should be included. Ask when the patient last took each medication. It’s also important to note patients’ allergies and the associated reactions, as well as their various prescribers and pharmacies.</a:t>
            </a: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391FC-D616-43EF-82DC-0B72D640B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 good medication history is not easy! Many health care professionals have not received training in how to take a good medication history. Compounding this, patients may not be familiar with their medications and may not have a medication list available.  Also, available sources of information (for example, from the ambulatory medical record) may be incomplete, out of date, or conflic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errors in the medication history are common. Some examples include omitting a medication, thinking that a patient is on a medication that she is not, or documenting the wrong dosage or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it takes to obtain a good medication history can be a barrier as well.  But with proper training and practice, providers can get both better and faster in taking an accurate history.</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529D4-0F84-4BEF-9917-85902E98E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tips on how to take the best possible medication history. Try to use at least 2 sources of information. These may include interviewing the patient, reviewing the patient’s written medication list, or obtaining information from family members or caregivers. Trying to verify information through the patient’s medication bottles, a medication list in the medical record, or the pharmacy where the patient fills prescriptions is also helpful. As you obtain information from different sources, it’s important to explore and clarify any discrepancies that you find.</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46F84-A782-4EC5-AF9B-050933772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n available medication list, for example from the outpatient medical record or a recent hospital discharge summary, can save time and reduce errors in the medication history. However, medication lists often are not current or accurate. The list may be incomplete or contain errors. It is important to review and verify the list with the patient. But don’t just read the list to the patient and ask if it is correct! Instead, you should start by asking the patient to tell you what they are taking, or at least how much and how often they take each medicine on the list. This increases your chances of finding inaccuracies in the list you have and also lets you assess the patient’s understanding of their medication regimen.  Then use the list to explore discrepancies and confirm information. Finally, you should probe to identify additional medications or products that may be absent from the list.</a:t>
            </a: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CCD74-C9F8-4BE9-9A8D-9215DBAEB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suggested questions to help you obtain an accurate medication history, whether or not you start with an available medication list. Begin with a simple, open-ended question like, “What medicines do you take?” Then ask about scheduled and prn medications. You can probe prn drugs by giving common symptoms that may prompt medication use, such as headaches, allergies, or insomnia.</a:t>
            </a: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905CA-E143-439C-A7CB-F2959468E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fill in the gaps. For each medication, elicit the dose and time of day the patient takes it, if this information has not already been provided. When appropriate, ask about formulation, such as extended release forms of diabetes and blood pressure agents, and route of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ing about the purpose of each medication provides information about patient understanding and may also lead to additional prompts (for example, asking if the patient takes anything else for that condition). Asking about medications for specific conditions that the patient has, based on the patient’s problem list, also helps complete the medication list.</a:t>
            </a: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D4A7A-8FED-48B8-BD76-A59D0D78F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bout medications that are easy to forget, including those that are not taken orally, are taken at night, or are used at longer intervals, such as weekly or month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bout non-prescription products as well, including vitamins.</a:t>
            </a: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80EFB-7E73-4005-A36C-07E36E2E4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when the patient last took a dose of certain medications, particularly those that have a narrow therapeutic window (like anticoagulants) or affect key physiologic parameters (like agents for blood pressure or diabe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bout adherence in a way that is open-ended and non-judgmental, that makes it ok for patients to admit their difficulties. For example, you could say “</a:t>
            </a:r>
            <a:r>
              <a:rPr b="0" i="1" lang="en-US" sz="1200" spc="-1" strike="noStrike">
                <a:solidFill>
                  <a:srgbClr val="000000"/>
                </a:solidFill>
                <a:latin typeface="Calibri"/>
              </a:rPr>
              <a:t>Many patients don’t take their medicines exactly as they should every day. In the last week, how many days have you missed a dose of one of your medic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1E873-E946-44DF-9BC0-EEFDE5D91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ave time and still take an accurate medication history, use a medication list or the patient’s pill bottles when they are available. If you have a list in the medical record that agrees with the patient’s list or bottles, or if the patient seems reliable and can readily explain the differences, you can complete the medication history fairly quickly. A patient who can fluently describe the medication names, doses, frequencies, and indications, and is knowledgeable about recent medication changes, is likely a reliable source of information. </a:t>
            </a: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54CCA-58FB-44F3-A411-5B7E09CCE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5FCF4-147F-4F12-9F34-BDBBE1EF9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always necessary to get additional medication information from other sources. However, in a few situations, you may need to contact the patient’s pharmacy or provider, or ask the family to bring in the medication bottles from home. This could be important if the patient is unsure about medication names, doses, and indications when asked to verify an existing list, or if the patient cannot explain discrepancies among medication lists. Gather additional data if the patient doesn’t have a list and can’t provide medication information reliably from memory. This is more important if the available medication list has not been updated recently. The nature of the missing information should also be taken into account. For example, if the only unresolved piece of information is the dose of a cholesterol-lowering medication, then it is not as urgent to call the pharmacy for confirmation.  But if the issue in question is the dose of insulin, where any dose is possible and the risks of over- or under-treatment are high, then it might be necessary to contact the pharmacy or outpatient provider’s office.</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always necessary to get additional medication information from other sources. However, in a few situations, you may need to contact the patient’s pharmacy or provider, or ask the family to bring in the medication bottles from home. This could be important if the patient is unsure about medication names, doses, and indications when asked to verify an existing list, or if the patient cannot explain discrepancies among medication lists. Gather additional data if the patient doesn’t have a list and can’t provide medication information reliably from memory. This is more important if the available medication list has not been updated recently. The nature of the missing information should also be taken into account. For example, if the only unresolved piece of information is the dose of a cholesterol-lowering medication, then it is not as urgent to call the pharmacy for confirmation.  But if the issue in question is the dose of insulin, where any dose is possible and the risks of over- or under-treatment are high, then it might be necessary to contact the pharmacy or outpatient provider’s offic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hort video that demonstrates the process of taking an accurate medication history when a medication list is available.</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A6783-3D93-42CB-8EA3-E633439D0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hort video that demonstrates the process of taking an accurate medication history when a medication list is available.</a:t>
            </a: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40E8E-558B-488D-92D2-6B3076E6A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other techniques not shown in these videos can increase the accuracy of the medication history. You can call the patient’s pharmacy or pharmacies, perform a “brown bag” review of the patient’s medication bottles, or obtain information from family members. Pill identifiers, like the one available on drugs.com, can be helpful for patients who know the appearance, but not the name, of their medications, or who bring in their pills but have removed them from the bottles.</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5F265-A86C-4058-AC08-C713B0116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other techniques not shown in these videos can increase the accuracy of the medication history. You can call the patient’s pharmacy or pharmacies, perform a “brown bag” review of the patient’s medication bottles, or obtain information from family members. Pill identifiers, like the one available on drugs.com, can be helpful for patients who know the appearance, but not the name, of their medications, or who bring in their pills but have removed them from the bottles.</a:t>
            </a: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DCE40-D9E2-46CD-B732-FC6277B7E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A8791-CC63-4DAE-BC25-B6CF0ED5D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23F8F9-91D2-4B73-B472-958F5EF77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E0C91-1C2E-4FDF-BBE3-835BE0958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acket Assignments</a:t>
            </a:r>
            <a:r>
              <a:rPr b="0" lang="en-US" sz="1200" spc="-1" strike="noStrike">
                <a:solidFill>
                  <a:srgbClr val="000000"/>
                </a:solidFill>
                <a:latin typeface="Calibri"/>
              </a:rPr>
              <a:t> (this is different from the resident work-shop where EVERYONE got to play each role o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ket 1: Giver, Obser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ket 2: Receiver, G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ket 3: Observer, Rece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ed handoff document for sim includes 3 internal medicine adult patients</a:t>
            </a: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814A0-013A-4815-97FA-02246AAAD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acket Assignments</a:t>
            </a:r>
            <a:r>
              <a:rPr b="0" lang="en-US" sz="1200" spc="-1" strike="noStrike">
                <a:solidFill>
                  <a:srgbClr val="000000"/>
                </a:solidFill>
                <a:latin typeface="Calibri"/>
              </a:rPr>
              <a:t> (this is different from the resident work-shop where EVERYONE got to play each role o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ket 1: Giver, Obser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ket 2: Receiver, G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cket 3: Observer, Rece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ed handoff document for sim includes 3 internal medicine adult patients</a:t>
            </a: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2FB96-2F2F-4B45-A750-7ED33CE2B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E7F68-86A7-416D-A64F-87BB254EB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3A886-F7AE-41CE-821A-DA0445EB0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6509E-EBE9-4566-8068-E42A98739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5866F-2481-4EF6-BAAD-1A3A8282B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6EBF2-9A8A-4814-8552-5D1640D02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38628-3F21-4360-9D04-08ADD8C32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A64C7-D6DA-43BD-8CE4-1646596B8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43681-685F-4C9F-871F-A29FB4093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yes” to “are you tking 250 mcg levothyroxine daily” </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E2C10-BC1D-4F80-96D5-E10E7A6D5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E63E0-32EA-4532-B3AD-C90500EF7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5AAA9-04C5-4BE3-8302-AC8D60BA2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9DBCA6-A19E-41CE-9D0B-9222575B5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81516-687B-4CB6-8620-4B26DCE46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D4253-A293-4762-B4DC-58175D3CB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7B8F3-4731-4C78-8E4B-8BBA0E4E7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836C6-1FF5-4FB2-B947-7F2A1DD92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BF46E-7D78-4722-966A-EBD9E4D9C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670EC-57D1-4E98-B5F6-825B81D52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015FE-9D86-4955-9D19-3D47EFFBF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aryann Mello is a 68 years 6.3 months F adm 8/9 ef 15 moderate as, non ischemic, severe mr unclear if secondary tocardiomyopathy or primary insult admitted on the August 5th for advanced therapy for CHF, listed for transplant mid august. She was  doing ok while being diuresed with lasix 200 BID daily and PA artery catheter monitoring. Right hart Cathon 08/06 that showed Elevated Left Heart Filling Pressures with PCWP= 32 mmHg, as well as severe mitral regurg, moderate AS. Follow up Right heart Cath on 08/19 showed  Right IJ ocluded, L IJ small caliber, showed normal right filling pressures, with increased PCWP at 21.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he was doing well until this friday when she spiked a fever of 100.8. Throught the hospital stay her BP 80's - 90's, however, blood pressures dropped to the SBP in the 70's. Blood and Urine Cultures , were sent and has showed ngtd. She had been on Dobutamine 5, and Dopamine 2 mcg, and had dopamine increased to 3 once her bp dropped. However, she became tachycardic to the 150's, and Dopamine was D/C . Given the concern for a mix cardiogenic and septic shock, she was started on Vanc/Cefepime/ on 08/24. She has a positive urine culture from 08/10 which was resistant to cipro and had a 5 day course of Bactrim (08/12-08/16).  Prior to trasnfer to the CCU, she has been persistent tachy  with lower blood pressures and patient did not appeared well and had altered mental status, feeling very somnolent. Concerning if for worsening cardiogenic vs superimposed septic shock.  She was started on flagyl today given episodes of lose stools. She had lasix boluses stopped on 08/24 and was started on a lasix dripp. The Dripp was D/C  given low blood pressures and altered sensorium. Her PA line was pulled given concern for infection. She will require a Swan ganz catheter place and right heart cath to help elucidate causes of acute decompensation and guide manageme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Other issues she has been hyponatremic with worsening with low blood pressures, thought to be secondary tohypovolemi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wan to see bp's consider IABP. beside echo showed looked relatively same with stable RV, LV with colasping IVC on inspiration . ABG 7.4/102/‎. She is being listed for Transplant. hyponatremic in the floor, most likely hypovolemia. Plummeted to mid 120's with worsening blood pressures. Thought is R heart cath, will give better sense of SVR, consider treatment of sepsis like standpoint, but if it looks more cardiogenic, IABP will be inserted. Chest x-ray cleared x 2, PA  line was pulled on Frida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8A27E-D3C1-4964-AD2A-E8AC3E9C6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8B3CE-8CDD-4910-B8AE-AF43E9E0D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BECBC-2503-46D9-B277-D02C4BF3C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47D79-3C2A-482C-A6B5-D21443F1A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F25AE-E22D-4CC5-A787-020B2B16A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B0DBE-49B2-47B7-885E-C5B5E7636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19F7D-A93F-4C11-B795-D11C166A2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1CFDC-07B7-4C01-8FC2-0A1BC371F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review some take home points. Taking an accurate medication history is important for reducing medication errors and adverse drug events. Unfortunately, it’s not easy, and it can take time. Refer to a medication list when you can, but be sure to review and verify it with the patient. By using open-ended questions and specific prompts, you can elicit a complete and accurate medication history. </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BBB68-468C-43BA-9F4A-84867BFB3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223D2-6910-4C2E-889A-8CA6FDB88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21BE6-1E41-4641-AB8E-49570921D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4F8766-9018-4DE5-BAC1-08D4DB972C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B6161C-14FB-4D51-978A-92FC2C358E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C8CED1-97DB-4EAC-B6DF-5418225D3A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02D6E3-9B60-4A8F-8B83-7FBCDF3115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91FF12E-9C98-4D97-B8FF-72487185F3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B1B18E5-5472-4D02-8BF9-B5241EF2B6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ACE076D-953E-4DD8-B81E-2C4C5B906B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62EE3D6-291D-46A9-8F1E-DD04F4BC60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77E6F7D7-E6B2-46D8-B27B-FAA4222F06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6A5BE05-130F-42B9-B453-0924821AD8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83F3B6D-8157-4C5F-9236-D9557AF403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AD0CC6-5608-4AB3-BF21-EA23604B4B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BD7A779-1ADD-44DB-BC20-81AEEBE246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45EC04C-B33F-4879-8454-0F8EC34E08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54B056-EDC0-49F5-9C05-EC71092B0E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9483719-9D59-4CA4-83AD-BA5EA9BB4F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792B8DF-D546-40A8-912F-BAC88D3C24E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61FF4B-50C6-4F4D-B23D-A4A0741A4A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7CC7B07-BA3A-4780-AC97-371F1F05AF6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C31F0C1-DF6A-4714-9C53-2C1DCD03B4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40DC15E-21A8-4EDE-8E1A-2958FB9181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D3D71E3-1568-40A7-B063-86D0484F90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079EB7-3C1A-415F-B7EC-A35F23F1C32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47BC9AC-7463-451B-AA19-1C6AC19ED7F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5D9188-4038-465C-9B1E-83765F6C88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EC21C1-F8F7-409A-9128-A365991434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7F4141-6987-4267-A553-AD46449F79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69D860E-52B9-4FAC-AA61-8AC4117462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6DDAE0F-14FA-457E-AD29-8DFF2B6DAA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D39B01A-F83F-4C4B-96EE-9B22F7642D0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724F285-0AE7-4916-A9C4-4713188339F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E4146E4-1ED4-43BB-A815-B742D48B9B1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373E49F-980D-4DB6-86BB-0C70769B65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9BC138-D90B-46A2-A781-5BC9CE88B47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57A3911-7DC0-4E76-B8F0-C993F1BCDC2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CFCC556-CB58-4A2A-B82F-E82A719B164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9A832DE-CD95-4FB4-9545-573EF1E6A9D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E553F8-7F4B-45C2-92C2-7E910AB89AB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A39446-482F-4073-A436-EE9E790C674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AE4CF41-0496-4484-B985-787212D05D5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E52FB5A-3B76-44F1-99A9-776B3BA416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8326131-DA7B-42C3-95B7-58E105EAE64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FC4F71F-73AD-4653-97A1-68223D1E934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8562D5A-0AB6-4498-9573-BCFE80A739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E24C8F-6313-4BF4-9080-86478C831B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BCEA861-A491-4701-B243-3D232C5F8B0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7B75918-3148-4339-A6A5-C2B9043FFB4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1169850-AA49-4314-ACED-7BE77A49EA3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D427E99-AAFB-400D-AE4F-09F700AFB0D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9730F6D-71E2-4685-8107-0D838D210BA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CF33B77-2C73-48FF-B50E-E0F8737C96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922156D-B809-467C-AB97-4D97BAF1CAD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50BD7DE-0C5B-4B45-8009-43A338E4ADB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955D8E6-F071-44D8-BB68-36598472196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D4BB61A-536C-43B5-AB98-A5B0B70381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296AC8-F289-4C90-9D07-AA3EEF2CFEB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E6CFED7-B78C-4D42-B1B9-3022D5A5FC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B6D862-9878-478D-95E4-2890ACDC97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271426-F69C-4C53-A601-FDD30BB250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88DE07-4F4A-43C3-877F-BAAB374BB0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60" y="6356520"/>
            <a:ext cx="2895480" cy="365040"/>
          </a:xfrm>
          <a:prstGeom prst="rect">
            <a:avLst/>
          </a:prstGeom>
          <a:solidFill>
            <a:srgbClr val="eeece1"/>
          </a:solid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Insert Institutional Logo Her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505320" y="63565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E3C92-E036-461E-9D09-67540FC3D0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Footer Placeholder 4"/>
          <p:cNvSpPr/>
          <p:nvPr/>
        </p:nvSpPr>
        <p:spPr>
          <a:xfrm>
            <a:off x="0" y="6326280"/>
            <a:ext cx="2895480" cy="365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Insert Institutional Logo Here</a:t>
            </a:r>
            <a:endParaRPr b="0" lang="en-US" sz="12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sldNum" idx="3"/>
          </p:nvPr>
        </p:nvSpPr>
        <p:spPr>
          <a:xfrm>
            <a:off x="35053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C8FC6-36DE-4A05-A030-70485C489E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Footer Placeholder 4"/>
          <p:cNvSpPr/>
          <p:nvPr/>
        </p:nvSpPr>
        <p:spPr>
          <a:xfrm>
            <a:off x="0" y="6326280"/>
            <a:ext cx="2895480" cy="365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Insert Institutional Logo Here</a:t>
            </a:r>
            <a:endParaRPr b="0" lang="en-US" sz="12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3505320" y="63565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3A71F-85A3-4BD1-A4C6-86883B40C9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Footer Placeholder 4"/>
          <p:cNvSpPr/>
          <p:nvPr/>
        </p:nvSpPr>
        <p:spPr>
          <a:xfrm>
            <a:off x="0" y="6326280"/>
            <a:ext cx="2895480" cy="365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Insert Institutional Logo Here</a:t>
            </a:r>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 name="PlaceHolder 3"/>
          <p:cNvSpPr>
            <a:spLocks noGrp="1"/>
          </p:cNvSpPr>
          <p:nvPr>
            <p:ph type="sldNum" idx="5"/>
          </p:nvPr>
        </p:nvSpPr>
        <p:spPr>
          <a:xfrm>
            <a:off x="3505320" y="63565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87838-5ECD-425D-96D7-BD9B1EA772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Footer Placeholder 4"/>
          <p:cNvSpPr/>
          <p:nvPr/>
        </p:nvSpPr>
        <p:spPr>
          <a:xfrm>
            <a:off x="0" y="6326280"/>
            <a:ext cx="2895480" cy="365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Insert Institutional Logo Here</a:t>
            </a:r>
            <a:endParaRPr b="0" lang="en-US" sz="12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 name="PlaceHolder 3"/>
          <p:cNvSpPr>
            <a:spLocks noGrp="1"/>
          </p:cNvSpPr>
          <p:nvPr>
            <p:ph type="sldNum" idx="6"/>
          </p:nvPr>
        </p:nvSpPr>
        <p:spPr>
          <a:xfrm>
            <a:off x="35053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D64AA-2B7C-43DA-8F18-5FC92D473F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www.youtube.com/watch?t=11&amp;v=It8KfitBeeE" TargetMode="External"/><Relationship Id="rId2" Type="http://schemas.openxmlformats.org/officeDocument/2006/relationships/slideLayout" Target="../slideLayouts/slideLayout37.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7.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http://www.hospitalmedicine.org/" TargetMode="External"/><Relationship Id="rId2"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Take the</a:t>
            </a:r>
            <a:br>
              <a:rPr sz="4400"/>
            </a:br>
            <a:r>
              <a:rPr b="0" lang="en-US" sz="4400" spc="-1" strike="noStrike">
                <a:solidFill>
                  <a:srgbClr val="000000"/>
                </a:solidFill>
                <a:latin typeface="Calibri"/>
              </a:rPr>
              <a:t>Best Possible Medication History (BPM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4"/>
          <p:cNvSpPr/>
          <p:nvPr/>
        </p:nvSpPr>
        <p:spPr>
          <a:xfrm>
            <a:off x="228600" y="99072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7" name="TextBox 28"/>
          <p:cNvSpPr/>
          <p:nvPr/>
        </p:nvSpPr>
        <p:spPr>
          <a:xfrm>
            <a:off x="782640" y="1066680"/>
            <a:ext cx="4440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TSH: 0.153 mIU/L </a:t>
            </a:r>
            <a:r>
              <a:rPr b="0" lang="en-US" sz="2400" spc="-1" strike="noStrike">
                <a:solidFill>
                  <a:srgbClr val="000000"/>
                </a:solidFill>
                <a:latin typeface="Calibri"/>
              </a:rPr>
              <a:t>(admission 3.95)</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Free T4: 3.8 ng/dL </a:t>
            </a:r>
            <a:r>
              <a:rPr b="0" lang="en-US" sz="2400" spc="-1" strike="noStrike">
                <a:solidFill>
                  <a:srgbClr val="000000"/>
                </a:solidFill>
                <a:latin typeface="Calibri"/>
              </a:rPr>
              <a:t>(nl 0.9-1.7)</a:t>
            </a:r>
            <a:endParaRPr b="0" lang="en-US" sz="2400" spc="-1" strike="noStrike">
              <a:solidFill>
                <a:srgbClr val="000000"/>
              </a:solidFill>
              <a:latin typeface="Arial"/>
            </a:endParaRPr>
          </a:p>
        </p:txBody>
      </p:sp>
      <p:grpSp>
        <p:nvGrpSpPr>
          <p:cNvPr id="238" name="Group 5"/>
          <p:cNvGrpSpPr/>
          <p:nvPr/>
        </p:nvGrpSpPr>
        <p:grpSpPr>
          <a:xfrm>
            <a:off x="0" y="-76320"/>
            <a:ext cx="9144000" cy="914400"/>
            <a:chOff x="0" y="-76320"/>
            <a:chExt cx="9144000" cy="914400"/>
          </a:xfrm>
        </p:grpSpPr>
        <p:sp>
          <p:nvSpPr>
            <p:cNvPr id="239" name="Rectangle 3"/>
            <p:cNvSpPr/>
            <p:nvPr/>
          </p:nvSpPr>
          <p:spPr>
            <a:xfrm>
              <a:off x="0" y="-76320"/>
              <a:ext cx="9144000" cy="914400"/>
            </a:xfrm>
            <a:prstGeom prst="rect">
              <a:avLst/>
            </a:prstGeom>
            <a:solidFill>
              <a:srgbClr val="4f81bd"/>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4"/>
            <p:cNvSpPr/>
            <p:nvPr/>
          </p:nvSpPr>
          <p:spPr>
            <a:xfrm>
              <a:off x="2160" y="720"/>
              <a:ext cx="91414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ase 1 – Hospital Cours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4"/>
          <p:cNvSpPr/>
          <p:nvPr/>
        </p:nvSpPr>
        <p:spPr>
          <a:xfrm>
            <a:off x="76320" y="990720"/>
            <a:ext cx="8915400" cy="5045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Endocrinology consulted and felt that decompensation consistent with thyrotoxicosis </a:t>
            </a: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On detailed review with patient, she reported taking “oval, salmon colored pill” which is consistent with 25 mcg levothyroxine</a:t>
            </a: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Outpatient pharmacy confirmed dose of 25 mcg levothyroxine for &gt; 1 year </a:t>
            </a: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Levothyroxine discontinued</a:t>
            </a:r>
            <a:endParaRPr b="0" lang="en-US" sz="25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p:txBody>
      </p:sp>
      <p:grpSp>
        <p:nvGrpSpPr>
          <p:cNvPr id="242" name="Group 5"/>
          <p:cNvGrpSpPr/>
          <p:nvPr/>
        </p:nvGrpSpPr>
        <p:grpSpPr>
          <a:xfrm>
            <a:off x="0" y="-76320"/>
            <a:ext cx="9144000" cy="914400"/>
            <a:chOff x="0" y="-76320"/>
            <a:chExt cx="9144000" cy="914400"/>
          </a:xfrm>
        </p:grpSpPr>
        <p:sp>
          <p:nvSpPr>
            <p:cNvPr id="243" name="Rectangle 3"/>
            <p:cNvSpPr/>
            <p:nvPr/>
          </p:nvSpPr>
          <p:spPr>
            <a:xfrm>
              <a:off x="0" y="-76320"/>
              <a:ext cx="9144000" cy="914400"/>
            </a:xfrm>
            <a:prstGeom prst="rect">
              <a:avLst/>
            </a:prstGeom>
            <a:solidFill>
              <a:srgbClr val="4f81bd"/>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Rectangle 4"/>
            <p:cNvSpPr/>
            <p:nvPr/>
          </p:nvSpPr>
          <p:spPr>
            <a:xfrm>
              <a:off x="2160" y="720"/>
              <a:ext cx="91414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ase 1 – Hospital Cours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Good Medication History Is</a:t>
            </a:r>
            <a:br>
              <a:rPr sz="4400"/>
            </a:br>
            <a:r>
              <a:rPr b="0" lang="en-US" sz="4400" spc="-1" strike="noStrike">
                <a:solidFill>
                  <a:srgbClr val="000000"/>
                </a:solidFill>
                <a:latin typeface="Calibri"/>
              </a:rPr>
              <a:t>Critical for Patient Safety</a:t>
            </a:r>
            <a:endParaRPr b="0" lang="en-US" sz="4400" spc="-1" strike="noStrike">
              <a:solidFill>
                <a:srgbClr val="000000"/>
              </a:solidFill>
              <a:latin typeface="Calibri"/>
            </a:endParaRPr>
          </a:p>
        </p:txBody>
      </p:sp>
      <p:sp>
        <p:nvSpPr>
          <p:cNvPr id="246"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erse drug eve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finition: injury due to a med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fect ~10% of patients during hospitaliz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fect ~15% of patients after hospital discharg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rrors in the medication histor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ount for up to 75% of all potentially harmful medication discrepancies in admission and discharge or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Results from MARQUIS</a:t>
            </a:r>
            <a:endParaRPr b="0" lang="en-US" sz="4400" spc="-1" strike="noStrike">
              <a:solidFill>
                <a:srgbClr val="000000"/>
              </a:solidFill>
              <a:latin typeface="Calibri"/>
            </a:endParaRPr>
          </a:p>
        </p:txBody>
      </p:sp>
      <p:sp>
        <p:nvSpPr>
          <p:cNvPr id="2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Oval 4"/>
          <p:cNvSpPr/>
          <p:nvPr/>
        </p:nvSpPr>
        <p:spPr>
          <a:xfrm>
            <a:off x="1828800" y="2666880"/>
            <a:ext cx="1295280" cy="1067040"/>
          </a:xfrm>
          <a:prstGeom prst="ellipse">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0" name=""/>
          <p:cNvGraphicFramePr/>
          <p:nvPr/>
        </p:nvGraphicFramePr>
        <p:xfrm>
          <a:off x="457200" y="1523880"/>
          <a:ext cx="8153280" cy="3341880"/>
        </p:xfrm>
        <a:graphic>
          <a:graphicData uri="http://schemas.openxmlformats.org/drawingml/2006/table">
            <a:tbl>
              <a:tblPr/>
              <a:tblGrid>
                <a:gridCol w="4876920"/>
                <a:gridCol w="1989000"/>
                <a:gridCol w="1287360"/>
              </a:tblGrid>
              <a:tr h="409320">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screpancy typ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l sites (n=48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ang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932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tal discrepancies per patient (all type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3.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2840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Admission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9-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40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ischarge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1-2.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932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istory discrepancie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4-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2840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Admission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3-1.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40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ischarge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4-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932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conciliation discrepancie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3-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2840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Admission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1-1.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40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ischarge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3-1.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RQUIS Adjudicated Results</a:t>
            </a:r>
            <a:endParaRPr b="0" lang="en-US" sz="4400" spc="-1" strike="noStrike">
              <a:solidFill>
                <a:srgbClr val="000000"/>
              </a:solidFill>
              <a:latin typeface="Calibri"/>
            </a:endParaRPr>
          </a:p>
        </p:txBody>
      </p:sp>
      <p:sp>
        <p:nvSpPr>
          <p:cNvPr id="2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253" name=""/>
          <p:cNvGraphicFramePr/>
          <p:nvPr/>
        </p:nvGraphicFramePr>
        <p:xfrm>
          <a:off x="990720" y="1503360"/>
          <a:ext cx="7162560" cy="3971880"/>
        </p:xfrm>
        <a:graphic>
          <a:graphicData uri="http://schemas.openxmlformats.org/drawingml/2006/table">
            <a:tbl>
              <a:tblPr/>
              <a:tblGrid>
                <a:gridCol w="4572000"/>
                <a:gridCol w="1044360"/>
                <a:gridCol w="1546200"/>
              </a:tblGrid>
              <a:tr h="558720">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l medication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l sites</a:t>
                      </a:r>
                      <a:br>
                        <a:rPr sz="1800"/>
                      </a:br>
                      <a:r>
                        <a:rPr b="1" lang="en-US" sz="1800" spc="-1" strike="noStrike">
                          <a:solidFill>
                            <a:srgbClr val="000000"/>
                          </a:solidFill>
                          <a:latin typeface="Calibri"/>
                        </a:rPr>
                        <a:t>(N=48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ange</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620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tentially harmful discrepancie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9360" rIns="8568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34</a:t>
                      </a:r>
                      <a:endParaRPr b="0" lang="en-US" sz="1800" spc="-1" strike="noStrike">
                        <a:solidFill>
                          <a:srgbClr val="000000"/>
                        </a:solidFill>
                        <a:latin typeface="Arial"/>
                      </a:endParaRPr>
                    </a:p>
                  </a:txBody>
                  <a:tcPr anchor="b" marL="9360" marR="8568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20-0.6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30492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Admission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360" rIns="8568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10</a:t>
                      </a:r>
                      <a:endParaRPr b="0" lang="en-US" sz="1800" spc="-1" strike="noStrike">
                        <a:solidFill>
                          <a:srgbClr val="000000"/>
                        </a:solidFill>
                        <a:latin typeface="Arial"/>
                      </a:endParaRPr>
                    </a:p>
                  </a:txBody>
                  <a:tcPr anchor="b" marL="9360" marR="8568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3-0.1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0492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ischarge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360" rIns="8568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24</a:t>
                      </a:r>
                      <a:endParaRPr b="0" lang="en-US" sz="1800" spc="-1" strike="noStrike">
                        <a:solidFill>
                          <a:srgbClr val="000000"/>
                        </a:solidFill>
                        <a:latin typeface="Arial"/>
                      </a:endParaRPr>
                    </a:p>
                  </a:txBody>
                  <a:tcPr anchor="b" marL="9360" marR="8568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11-0.4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40932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istory Discrepancie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8568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10</a:t>
                      </a:r>
                      <a:endParaRPr b="0" lang="en-US" sz="1800" spc="-1" strike="noStrike">
                        <a:solidFill>
                          <a:srgbClr val="000000"/>
                        </a:solidFill>
                        <a:latin typeface="Arial"/>
                      </a:endParaRPr>
                    </a:p>
                  </a:txBody>
                  <a:tcPr anchor="b" marL="9360" marR="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1-0.1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336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conciliation Discrepancie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8568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24</a:t>
                      </a:r>
                      <a:endParaRPr b="0" lang="en-US" sz="1800" spc="-1" strike="noStrike">
                        <a:solidFill>
                          <a:srgbClr val="000000"/>
                        </a:solidFill>
                        <a:latin typeface="Arial"/>
                      </a:endParaRPr>
                    </a:p>
                  </a:txBody>
                  <a:tcPr anchor="b" marL="9360" marR="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7-0.5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908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tential severity: admission</a:t>
                      </a:r>
                      <a:br>
                        <a:rPr sz="1800"/>
                      </a:br>
                      <a:r>
                        <a:rPr b="0" lang="en-US" sz="1800" spc="-1" strike="noStrike">
                          <a:solidFill>
                            <a:srgbClr val="000000"/>
                          </a:solidFill>
                          <a:latin typeface="Calibri"/>
                        </a:rPr>
                        <a:t>     Significant</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8568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8</a:t>
                      </a:r>
                      <a:endParaRPr b="0" lang="en-US" sz="1800" spc="-1" strike="noStrike">
                        <a:solidFill>
                          <a:srgbClr val="000000"/>
                        </a:solidFill>
                        <a:latin typeface="Arial"/>
                      </a:endParaRPr>
                    </a:p>
                  </a:txBody>
                  <a:tcPr anchor="b" marL="9360" marR="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3-0.1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40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erious</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8568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2</a:t>
                      </a:r>
                      <a:endParaRPr b="0" lang="en-US" sz="1800" spc="-1" strike="noStrike">
                        <a:solidFill>
                          <a:srgbClr val="000000"/>
                        </a:solidFill>
                        <a:latin typeface="Arial"/>
                      </a:endParaRPr>
                    </a:p>
                  </a:txBody>
                  <a:tcPr anchor="b" marL="9360" marR="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0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836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tential severity: discharge</a:t>
                      </a:r>
                      <a:br>
                        <a:rPr sz="1800"/>
                      </a:br>
                      <a:r>
                        <a:rPr b="0" lang="en-US" sz="1800" spc="-1" strike="noStrike">
                          <a:solidFill>
                            <a:srgbClr val="000000"/>
                          </a:solidFill>
                          <a:latin typeface="Calibri"/>
                        </a:rPr>
                        <a:t>     Significant</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8568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18</a:t>
                      </a:r>
                      <a:endParaRPr b="0" lang="en-US" sz="1800" spc="-1" strike="noStrike">
                        <a:solidFill>
                          <a:srgbClr val="000000"/>
                        </a:solidFill>
                        <a:latin typeface="Arial"/>
                      </a:endParaRPr>
                    </a:p>
                  </a:txBody>
                  <a:tcPr anchor="b" marL="9360" marR="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5-0.2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40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erious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8568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7</a:t>
                      </a:r>
                      <a:endParaRPr b="0" lang="en-US" sz="1800" spc="-1" strike="noStrike">
                        <a:solidFill>
                          <a:srgbClr val="000000"/>
                        </a:solidFill>
                        <a:latin typeface="Arial"/>
                      </a:endParaRPr>
                    </a:p>
                  </a:txBody>
                  <a:tcPr anchor="b" marL="9360" marR="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1-0.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4"/>
          <p:cNvSpPr/>
          <p:nvPr/>
        </p:nvSpPr>
        <p:spPr>
          <a:xfrm>
            <a:off x="609480" y="0"/>
            <a:ext cx="8534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se Study #1: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dication Reconciliation Assistant (MRA)</a:t>
            </a:r>
            <a:endParaRPr b="0" lang="en-US" sz="3200" spc="-1" strike="noStrike">
              <a:solidFill>
                <a:srgbClr val="000000"/>
              </a:solidFill>
              <a:latin typeface="Arial"/>
            </a:endParaRPr>
          </a:p>
        </p:txBody>
      </p:sp>
      <p:pic>
        <p:nvPicPr>
          <p:cNvPr id="255" name="Picture 5" descr="MRA Provider Workflow.png"/>
          <p:cNvPicPr/>
          <p:nvPr/>
        </p:nvPicPr>
        <p:blipFill>
          <a:blip r:embed="rId1"/>
          <a:stretch/>
        </p:blipFill>
        <p:spPr>
          <a:xfrm>
            <a:off x="0" y="1143000"/>
            <a:ext cx="9144000" cy="4944960"/>
          </a:xfrm>
          <a:prstGeom prst="rect">
            <a:avLst/>
          </a:prstGeom>
          <a:ln w="0">
            <a:noFill/>
          </a:ln>
        </p:spPr>
      </p:pic>
      <p:sp>
        <p:nvSpPr>
          <p:cNvPr id="256" name="TextBox 8"/>
          <p:cNvSpPr/>
          <p:nvPr/>
        </p:nvSpPr>
        <p:spPr>
          <a:xfrm>
            <a:off x="3429000" y="4754520"/>
            <a:ext cx="5562720" cy="2025720"/>
          </a:xfrm>
          <a:prstGeom prst="rect">
            <a:avLst/>
          </a:prstGeom>
          <a:solidFill>
            <a:srgbClr val="badde1"/>
          </a:solidFill>
          <a:ln w="9360">
            <a:solidFill>
              <a:srgbClr val="7f7f7f"/>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MRAs – 4 FTEs, pharmacy techs w/retail pharmacy experience</a:t>
            </a:r>
            <a:endParaRPr b="0" lang="en-US" sz="1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Stationed in ED </a:t>
            </a:r>
            <a:endParaRPr b="0" lang="en-US" sz="1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Aim to see every ED patient admitted to hospital</a:t>
            </a:r>
            <a:endParaRPr b="0" lang="en-US" sz="1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Do BPMH for 60-90 patients / day </a:t>
            </a:r>
            <a:r>
              <a:rPr b="0" lang="en-US" sz="1500" spc="-1" strike="noStrike">
                <a:solidFill>
                  <a:srgbClr val="000000"/>
                </a:solidFill>
                <a:latin typeface="Arial"/>
              </a:rPr>
              <a:t>(535-bed community hospital)</a:t>
            </a:r>
            <a:endParaRPr b="0" lang="en-US" sz="15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Each MRA sees 20-30 patients / 8-hour shift</a:t>
            </a:r>
            <a:endParaRPr b="0" lang="en-US" sz="16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3 shifts / day Mon-Thur and 2 shifts / day Fri - Su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685440" y="1143000"/>
            <a:ext cx="792468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rrier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vailable, competent BPMH-taker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o will perform BPMH for the 2-8 patients/day on intervention unit who bypassed the ED’s MRA program?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How do you ensure BPMH competence for these people?</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rap &amp; re-work (gold vs. garbage conundrum)</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How does discharging provider discern if  admission medication list is the product of a BPMH, i.e. gold?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Or the opposite, i.e. garbage?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Not knowing means a diligent provider must do a BPMH at the time of discharge (scrap &amp; re-work = waste)</a:t>
            </a:r>
            <a:endParaRPr b="0" lang="en-US" sz="2000" spc="-1" strike="noStrike">
              <a:solidFill>
                <a:srgbClr val="000000"/>
              </a:solidFill>
              <a:latin typeface="Calibri"/>
            </a:endParaRPr>
          </a:p>
        </p:txBody>
      </p:sp>
      <p:sp>
        <p:nvSpPr>
          <p:cNvPr id="258" name="TextBox 4"/>
          <p:cNvSpPr/>
          <p:nvPr/>
        </p:nvSpPr>
        <p:spPr>
          <a:xfrm>
            <a:off x="2514600" y="22860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se Study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685440" y="1143000"/>
            <a:ext cx="792468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rrier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le clarity: who does what and whe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etency training: how do we train the right people for their roles, e.g., taking a BPM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ngoing competency training: how do you reach new hires?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260" name="TextBox 5"/>
          <p:cNvSpPr/>
          <p:nvPr/>
        </p:nvSpPr>
        <p:spPr>
          <a:xfrm>
            <a:off x="2514600" y="22860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se Study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837720"/>
            <a:ext cx="891540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sson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We can determine oversights in real-tim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MARQUIS pharmacist can generate list of:</a:t>
            </a:r>
            <a:endParaRPr b="0" lang="en-US" sz="2000" spc="-1" strike="noStrike">
              <a:solidFill>
                <a:srgbClr val="000000"/>
              </a:solidFill>
              <a:latin typeface="Calibri"/>
            </a:endParaRPr>
          </a:p>
          <a:p>
            <a:pPr lvl="2" marL="1143000" indent="-228600">
              <a:spcBef>
                <a:spcPts val="499"/>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High risk patients</a:t>
            </a:r>
            <a:endParaRPr b="0" lang="en-US" sz="2000" spc="-1" strike="noStrike">
              <a:solidFill>
                <a:srgbClr val="000000"/>
              </a:solidFill>
              <a:latin typeface="Calibri"/>
            </a:endParaRPr>
          </a:p>
          <a:p>
            <a:pPr lvl="2" marL="1143000" indent="-228600">
              <a:spcBef>
                <a:spcPts val="499"/>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atients who still need BPMH (i.e. not seen by MRA in ED)</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We can determine needs so we can recommend rational resource allocation to leadership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4-8 patients / day on intervention unit still need a BPMH</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e know who these patients are, so could address in real-time</a:t>
            </a:r>
            <a:endParaRPr b="0" lang="en-US" sz="2000" spc="-1" strike="noStrike">
              <a:solidFill>
                <a:srgbClr val="000000"/>
              </a:solidFill>
              <a:latin typeface="Calibri"/>
            </a:endParaRPr>
          </a:p>
          <a:p>
            <a:pPr lvl="2" marL="1143000" indent="-228600">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
        <p:nvSpPr>
          <p:cNvPr id="262" name="TextBox 6"/>
          <p:cNvSpPr/>
          <p:nvPr/>
        </p:nvSpPr>
        <p:spPr>
          <a:xfrm>
            <a:off x="2514600" y="22860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se Study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228240" y="838080"/>
            <a:ext cx="8915400" cy="56390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ssons (continued)</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Addressing issues of training and competency assessment: </a:t>
            </a:r>
            <a:r>
              <a:rPr b="1" lang="en-US" sz="2000" spc="-1" strike="noStrike">
                <a:solidFill>
                  <a:srgbClr val="000000"/>
                </a:solidFill>
                <a:latin typeface="Calibri"/>
              </a:rPr>
              <a:t>Created simulation-based training</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Role-play by instructor with scrip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ccess to sources of medication information when asked</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hecklist of desired behavior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Gold-standard medication list when completed</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Need for documentation of quality of and sources used to create medication history</a:t>
            </a:r>
            <a:endParaRPr b="0" lang="en-US" sz="2400" spc="-1" strike="noStrike">
              <a:solidFill>
                <a:srgbClr val="000000"/>
              </a:solidFill>
              <a:latin typeface="Calibri"/>
            </a:endParaRPr>
          </a:p>
          <a:p>
            <a:pPr lvl="2" marL="1143000" indent="-2286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264" name="TextBox 6"/>
          <p:cNvSpPr/>
          <p:nvPr/>
        </p:nvSpPr>
        <p:spPr>
          <a:xfrm>
            <a:off x="2514600" y="22860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se Study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209" name=""/>
          <p:cNvSpPr txBox="1"/>
          <p:nvPr/>
        </p:nvSpPr>
        <p:spPr>
          <a:xfrm>
            <a:off x="380880" y="1523880"/>
            <a:ext cx="83822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medication reconciliation and history-taking are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to take a best-possible medication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group simul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brie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Chart 6" descr=""/>
          <p:cNvPicPr/>
          <p:nvPr/>
        </p:nvPicPr>
        <p:blipFill>
          <a:blip r:embed="rId1"/>
          <a:stretch/>
        </p:blipFill>
        <p:spPr>
          <a:xfrm>
            <a:off x="725400" y="1170000"/>
            <a:ext cx="7693200" cy="4518000"/>
          </a:xfrm>
          <a:prstGeom prst="rect">
            <a:avLst/>
          </a:prstGeom>
          <a:ln w="0">
            <a:noFill/>
          </a:ln>
        </p:spPr>
      </p:pic>
      <p:sp>
        <p:nvSpPr>
          <p:cNvPr id="266" name="Down Arrow 7"/>
          <p:cNvSpPr/>
          <p:nvPr/>
        </p:nvSpPr>
        <p:spPr>
          <a:xfrm>
            <a:off x="2590920" y="2590920"/>
            <a:ext cx="304560" cy="609480"/>
          </a:xfrm>
          <a:prstGeom prst="downArrow">
            <a:avLst>
              <a:gd name="adj1" fmla="val 50000"/>
              <a:gd name="adj2" fmla="val 50030"/>
            </a:avLst>
          </a:prstGeom>
          <a:solidFill>
            <a:srgbClr val="000000"/>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Down Arrow 8"/>
          <p:cNvSpPr/>
          <p:nvPr/>
        </p:nvSpPr>
        <p:spPr>
          <a:xfrm>
            <a:off x="3886200" y="1828800"/>
            <a:ext cx="304920" cy="1066680"/>
          </a:xfrm>
          <a:prstGeom prst="downArrow">
            <a:avLst>
              <a:gd name="adj1" fmla="val 50000"/>
              <a:gd name="adj2" fmla="val 49979"/>
            </a:avLst>
          </a:prstGeom>
          <a:solidFill>
            <a:srgbClr val="002060"/>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Down Arrow 11"/>
          <p:cNvSpPr/>
          <p:nvPr/>
        </p:nvSpPr>
        <p:spPr>
          <a:xfrm>
            <a:off x="4343400" y="2514600"/>
            <a:ext cx="304920" cy="838080"/>
          </a:xfrm>
          <a:prstGeom prst="downArrow">
            <a:avLst>
              <a:gd name="adj1" fmla="val 50000"/>
              <a:gd name="adj2" fmla="val 49970"/>
            </a:avLst>
          </a:prstGeom>
          <a:solidFill>
            <a:srgbClr val="6666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TextBox 12"/>
          <p:cNvSpPr/>
          <p:nvPr/>
        </p:nvSpPr>
        <p:spPr>
          <a:xfrm>
            <a:off x="1828800" y="2362320"/>
            <a:ext cx="1905120" cy="276480"/>
          </a:xfrm>
          <a:prstGeom prst="rect">
            <a:avLst/>
          </a:prstGeom>
          <a:solidFill>
            <a:srgbClr val="000000"/>
          </a:solidFill>
          <a:ln w="3168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2f2f2"/>
                </a:solidFill>
                <a:latin typeface="Times New Roman"/>
                <a:ea typeface="Times New Roman"/>
              </a:rPr>
              <a:t>Start of MARQUIS</a:t>
            </a:r>
            <a:endParaRPr b="0" lang="en-US" sz="1200" spc="-1" strike="noStrike">
              <a:solidFill>
                <a:srgbClr val="000000"/>
              </a:solidFill>
              <a:latin typeface="Arial"/>
            </a:endParaRPr>
          </a:p>
        </p:txBody>
      </p:sp>
      <p:sp>
        <p:nvSpPr>
          <p:cNvPr id="270" name="TextBox 13"/>
          <p:cNvSpPr/>
          <p:nvPr/>
        </p:nvSpPr>
        <p:spPr>
          <a:xfrm>
            <a:off x="3962520" y="1600200"/>
            <a:ext cx="2590560" cy="276480"/>
          </a:xfrm>
          <a:prstGeom prst="rect">
            <a:avLst/>
          </a:prstGeom>
          <a:solidFill>
            <a:srgbClr val="002060"/>
          </a:solidFill>
          <a:ln w="3168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2f2f2"/>
                </a:solidFill>
                <a:latin typeface="Times New Roman"/>
                <a:ea typeface="Times New Roman"/>
              </a:rPr>
              <a:t>Refresher BPMH training for MRAs</a:t>
            </a:r>
            <a:endParaRPr b="0" lang="en-US" sz="1200" spc="-1" strike="noStrike">
              <a:solidFill>
                <a:srgbClr val="000000"/>
              </a:solidFill>
              <a:latin typeface="Arial"/>
            </a:endParaRPr>
          </a:p>
        </p:txBody>
      </p:sp>
      <p:sp>
        <p:nvSpPr>
          <p:cNvPr id="271" name="TextBox 15"/>
          <p:cNvSpPr/>
          <p:nvPr/>
        </p:nvSpPr>
        <p:spPr>
          <a:xfrm>
            <a:off x="4419720" y="2286000"/>
            <a:ext cx="3162240" cy="276480"/>
          </a:xfrm>
          <a:prstGeom prst="rect">
            <a:avLst/>
          </a:prstGeom>
          <a:solidFill>
            <a:srgbClr val="6666ff"/>
          </a:solidFill>
          <a:ln w="3168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2f2f2"/>
                </a:solidFill>
                <a:latin typeface="Times New Roman"/>
                <a:ea typeface="Times New Roman"/>
              </a:rPr>
              <a:t>BPMH training for RNs on intervention unit</a:t>
            </a:r>
            <a:endParaRPr b="0" lang="en-US" sz="1200" spc="-1" strike="noStrike">
              <a:solidFill>
                <a:srgbClr val="000000"/>
              </a:solidFill>
              <a:latin typeface="Arial"/>
            </a:endParaRPr>
          </a:p>
        </p:txBody>
      </p:sp>
      <p:sp>
        <p:nvSpPr>
          <p:cNvPr id="272" name="TextBox 18"/>
          <p:cNvSpPr/>
          <p:nvPr/>
        </p:nvSpPr>
        <p:spPr>
          <a:xfrm>
            <a:off x="2362320" y="30492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se Study #1: Preliminary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7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7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68"/>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xit" presetID="1">
                                  <p:stCondLst>
                                    <p:cond delay="0"/>
                                  </p:stCondLst>
                                  <p:childTnLst>
                                    <p:set>
                                      <p:cBhvr>
                                        <p:cTn id="24" dur="1" fill="hold">
                                          <p:stCondLst>
                                            <p:cond delay="0"/>
                                          </p:stCondLst>
                                        </p:cTn>
                                        <p:tgtEl>
                                          <p:spTgt spid="270"/>
                                        </p:tgtEl>
                                        <p:attrNameLst>
                                          <p:attrName>style.visibility</p:attrName>
                                        </p:attrNameLst>
                                      </p:cBhvr>
                                      <p:to>
                                        <p:strVal val="hidden"/>
                                      </p:to>
                                    </p:set>
                                  </p:childTnLst>
                                </p:cTn>
                              </p:par>
                              <p:par>
                                <p:cTn id="25" nodeType="withEffect" fill="hold" presetClass="exit" presetID="1">
                                  <p:stCondLst>
                                    <p:cond delay="0"/>
                                  </p:stCondLst>
                                  <p:childTnLst>
                                    <p:set>
                                      <p:cBhvr>
                                        <p:cTn id="26" dur="1" fill="hold">
                                          <p:stCondLst>
                                            <p:cond delay="0"/>
                                          </p:stCondLst>
                                        </p:cTn>
                                        <p:tgtEl>
                                          <p:spTgt spid="267"/>
                                        </p:tgtEl>
                                        <p:attrNameLst>
                                          <p:attrName>style.visibility</p:attrName>
                                        </p:attrNameLst>
                                      </p:cBhvr>
                                      <p:to>
                                        <p:strVal val="hidden"/>
                                      </p:to>
                                    </p:set>
                                  </p:childTnLst>
                                </p:cTn>
                              </p:par>
                              <p:par>
                                <p:cTn id="27" nodeType="withEffect" fill="hold" presetClass="exit" presetID="1">
                                  <p:stCondLst>
                                    <p:cond delay="0"/>
                                  </p:stCondLst>
                                  <p:childTnLst>
                                    <p:set>
                                      <p:cBhvr>
                                        <p:cTn id="28" dur="1" fill="hold">
                                          <p:stCondLst>
                                            <p:cond delay="0"/>
                                          </p:stCondLst>
                                        </p:cTn>
                                        <p:tgtEl>
                                          <p:spTgt spid="271"/>
                                        </p:tgtEl>
                                        <p:attrNameLst>
                                          <p:attrName>style.visibility</p:attrName>
                                        </p:attrNameLst>
                                      </p:cBhvr>
                                      <p:to>
                                        <p:strVal val="hidden"/>
                                      </p:to>
                                    </p:set>
                                  </p:childTnLst>
                                </p:cTn>
                              </p:par>
                              <p:par>
                                <p:cTn id="29" nodeType="withEffect" fill="hold" presetClass="exit" presetID="1">
                                  <p:stCondLst>
                                    <p:cond delay="0"/>
                                  </p:stCondLst>
                                  <p:childTnLst>
                                    <p:set>
                                      <p:cBhvr>
                                        <p:cTn id="30" dur="1" fill="hold">
                                          <p:stCondLst>
                                            <p:cond delay="0"/>
                                          </p:stCondLst>
                                        </p:cTn>
                                        <p:tgtEl>
                                          <p:spTgt spid="2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Chart 6" descr=""/>
          <p:cNvPicPr/>
          <p:nvPr/>
        </p:nvPicPr>
        <p:blipFill>
          <a:blip r:embed="rId1"/>
          <a:stretch/>
        </p:blipFill>
        <p:spPr>
          <a:xfrm>
            <a:off x="725400" y="1170000"/>
            <a:ext cx="7693200" cy="4518000"/>
          </a:xfrm>
          <a:prstGeom prst="rect">
            <a:avLst/>
          </a:prstGeom>
          <a:ln w="0">
            <a:noFill/>
          </a:ln>
        </p:spPr>
      </p:pic>
      <p:sp>
        <p:nvSpPr>
          <p:cNvPr id="274" name="Down Arrow 7"/>
          <p:cNvSpPr/>
          <p:nvPr/>
        </p:nvSpPr>
        <p:spPr>
          <a:xfrm>
            <a:off x="2590920" y="2590920"/>
            <a:ext cx="304560" cy="609480"/>
          </a:xfrm>
          <a:prstGeom prst="downArrow">
            <a:avLst>
              <a:gd name="adj1" fmla="val 50000"/>
              <a:gd name="adj2" fmla="val 50030"/>
            </a:avLst>
          </a:prstGeom>
          <a:solidFill>
            <a:srgbClr val="000000"/>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Down Arrow 8"/>
          <p:cNvSpPr/>
          <p:nvPr/>
        </p:nvSpPr>
        <p:spPr>
          <a:xfrm>
            <a:off x="3886200" y="1828800"/>
            <a:ext cx="304920" cy="1066680"/>
          </a:xfrm>
          <a:prstGeom prst="downArrow">
            <a:avLst>
              <a:gd name="adj1" fmla="val 50000"/>
              <a:gd name="adj2" fmla="val 49979"/>
            </a:avLst>
          </a:prstGeom>
          <a:solidFill>
            <a:srgbClr val="ffffff">
              <a:alpha val="8000"/>
            </a:srgbClr>
          </a:solidFill>
          <a:ln w="2232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Down Arrow 10"/>
          <p:cNvSpPr/>
          <p:nvPr/>
        </p:nvSpPr>
        <p:spPr>
          <a:xfrm>
            <a:off x="4114800" y="2133720"/>
            <a:ext cx="304920" cy="1066680"/>
          </a:xfrm>
          <a:prstGeom prst="downArrow">
            <a:avLst>
              <a:gd name="adj1" fmla="val 50000"/>
              <a:gd name="adj2" fmla="val 49979"/>
            </a:avLst>
          </a:prstGeom>
          <a:solidFill>
            <a:srgbClr val="ffffff">
              <a:alpha val="8000"/>
            </a:srgbClr>
          </a:solidFill>
          <a:ln w="2232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Down Arrow 11"/>
          <p:cNvSpPr/>
          <p:nvPr/>
        </p:nvSpPr>
        <p:spPr>
          <a:xfrm>
            <a:off x="4343400" y="2514600"/>
            <a:ext cx="304920" cy="838080"/>
          </a:xfrm>
          <a:prstGeom prst="downArrow">
            <a:avLst>
              <a:gd name="adj1" fmla="val 50000"/>
              <a:gd name="adj2" fmla="val 49970"/>
            </a:avLst>
          </a:prstGeom>
          <a:solidFill>
            <a:srgbClr val="ffffff">
              <a:alpha val="8000"/>
            </a:srgbClr>
          </a:solidFill>
          <a:ln w="2232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TextBox 12"/>
          <p:cNvSpPr/>
          <p:nvPr/>
        </p:nvSpPr>
        <p:spPr>
          <a:xfrm>
            <a:off x="1828800" y="2362320"/>
            <a:ext cx="1905120" cy="276480"/>
          </a:xfrm>
          <a:prstGeom prst="rect">
            <a:avLst/>
          </a:prstGeom>
          <a:solidFill>
            <a:srgbClr val="000000"/>
          </a:solidFill>
          <a:ln w="3168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2f2f2"/>
                </a:solidFill>
                <a:latin typeface="Times New Roman"/>
                <a:ea typeface="Times New Roman"/>
              </a:rPr>
              <a:t>Start of MARQUIS</a:t>
            </a:r>
            <a:endParaRPr b="0" lang="en-US" sz="1200" spc="-1" strike="noStrike">
              <a:solidFill>
                <a:srgbClr val="000000"/>
              </a:solidFill>
              <a:latin typeface="Arial"/>
            </a:endParaRPr>
          </a:p>
        </p:txBody>
      </p:sp>
      <p:sp>
        <p:nvSpPr>
          <p:cNvPr id="279" name="TextBox 13"/>
          <p:cNvSpPr/>
          <p:nvPr/>
        </p:nvSpPr>
        <p:spPr>
          <a:xfrm>
            <a:off x="3962520" y="1600200"/>
            <a:ext cx="2590560" cy="276480"/>
          </a:xfrm>
          <a:prstGeom prst="rect">
            <a:avLst/>
          </a:prstGeom>
          <a:solidFill>
            <a:srgbClr val="ffffff">
              <a:alpha val="8000"/>
            </a:srgbClr>
          </a:solidFill>
          <a:ln w="15840">
            <a:solidFill>
              <a:srgbClr val="bfbfb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d9d9d9"/>
                </a:solidFill>
                <a:latin typeface="Times New Roman"/>
                <a:ea typeface="Times New Roman"/>
              </a:rPr>
              <a:t>Refresher BPMH training for MRAs</a:t>
            </a:r>
            <a:endParaRPr b="0" lang="en-US" sz="1200" spc="-1" strike="noStrike">
              <a:solidFill>
                <a:srgbClr val="000000"/>
              </a:solidFill>
              <a:latin typeface="Arial"/>
            </a:endParaRPr>
          </a:p>
        </p:txBody>
      </p:sp>
      <p:sp>
        <p:nvSpPr>
          <p:cNvPr id="280" name="TextBox 14"/>
          <p:cNvSpPr/>
          <p:nvPr/>
        </p:nvSpPr>
        <p:spPr>
          <a:xfrm>
            <a:off x="4191120" y="1933560"/>
            <a:ext cx="3162240" cy="276480"/>
          </a:xfrm>
          <a:prstGeom prst="rect">
            <a:avLst/>
          </a:prstGeom>
          <a:solidFill>
            <a:srgbClr val="ffffff"/>
          </a:solidFill>
          <a:ln w="22320">
            <a:solidFill>
              <a:srgbClr val="bfbfb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d9d9d9"/>
                </a:solidFill>
                <a:latin typeface="Times New Roman"/>
                <a:ea typeface="Times New Roman"/>
              </a:rPr>
              <a:t>Intensive DC counseling by PharmDs</a:t>
            </a:r>
            <a:endParaRPr b="0" lang="en-US" sz="1200" spc="-1" strike="noStrike">
              <a:solidFill>
                <a:srgbClr val="000000"/>
              </a:solidFill>
              <a:latin typeface="Arial"/>
            </a:endParaRPr>
          </a:p>
        </p:txBody>
      </p:sp>
      <p:sp>
        <p:nvSpPr>
          <p:cNvPr id="281" name="TextBox 15"/>
          <p:cNvSpPr/>
          <p:nvPr/>
        </p:nvSpPr>
        <p:spPr>
          <a:xfrm>
            <a:off x="4419720" y="2286000"/>
            <a:ext cx="3162240" cy="276480"/>
          </a:xfrm>
          <a:prstGeom prst="rect">
            <a:avLst/>
          </a:prstGeom>
          <a:solidFill>
            <a:srgbClr val="ffffff"/>
          </a:solidFill>
          <a:ln w="22320">
            <a:solidFill>
              <a:srgbClr val="bfbfb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d9d9d9"/>
                </a:solidFill>
                <a:latin typeface="Times New Roman"/>
                <a:ea typeface="Times New Roman"/>
              </a:rPr>
              <a:t>BPMH training for RNs on intervention unit</a:t>
            </a:r>
            <a:endParaRPr b="0" lang="en-US" sz="1200" spc="-1" strike="noStrike">
              <a:solidFill>
                <a:srgbClr val="000000"/>
              </a:solidFill>
              <a:latin typeface="Arial"/>
            </a:endParaRPr>
          </a:p>
        </p:txBody>
      </p:sp>
      <p:sp>
        <p:nvSpPr>
          <p:cNvPr id="282" name="TextBox 16"/>
          <p:cNvSpPr/>
          <p:nvPr/>
        </p:nvSpPr>
        <p:spPr>
          <a:xfrm>
            <a:off x="4572000" y="990720"/>
            <a:ext cx="1905120" cy="276480"/>
          </a:xfrm>
          <a:prstGeom prst="rect">
            <a:avLst/>
          </a:prstGeom>
          <a:solidFill>
            <a:srgbClr val="002060"/>
          </a:solidFill>
          <a:ln w="3168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2f2f2"/>
                </a:solidFill>
                <a:latin typeface="Times New Roman"/>
                <a:ea typeface="Times New Roman"/>
              </a:rPr>
              <a:t>MRA shift added to Sat </a:t>
            </a:r>
            <a:endParaRPr b="0" lang="en-US" sz="1200" spc="-1" strike="noStrike">
              <a:solidFill>
                <a:srgbClr val="000000"/>
              </a:solidFill>
              <a:latin typeface="Arial"/>
            </a:endParaRPr>
          </a:p>
        </p:txBody>
      </p:sp>
      <p:sp>
        <p:nvSpPr>
          <p:cNvPr id="283" name="Down Arrow 17"/>
          <p:cNvSpPr/>
          <p:nvPr/>
        </p:nvSpPr>
        <p:spPr>
          <a:xfrm>
            <a:off x="4572000" y="1295280"/>
            <a:ext cx="304920" cy="1295640"/>
          </a:xfrm>
          <a:prstGeom prst="downArrow">
            <a:avLst>
              <a:gd name="adj1" fmla="val 50000"/>
              <a:gd name="adj2" fmla="val 49986"/>
            </a:avLst>
          </a:prstGeom>
          <a:solidFill>
            <a:srgbClr val="002060"/>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TextBox 18"/>
          <p:cNvSpPr/>
          <p:nvPr/>
        </p:nvSpPr>
        <p:spPr>
          <a:xfrm>
            <a:off x="5410080" y="1295280"/>
            <a:ext cx="2057400" cy="276480"/>
          </a:xfrm>
          <a:prstGeom prst="rect">
            <a:avLst/>
          </a:prstGeom>
          <a:solidFill>
            <a:srgbClr val="333399"/>
          </a:solidFill>
          <a:ln w="3168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2f2f2"/>
                </a:solidFill>
                <a:latin typeface="Times New Roman"/>
                <a:ea typeface="Times New Roman"/>
              </a:rPr>
              <a:t>New Admit / DC RN starts</a:t>
            </a:r>
            <a:endParaRPr b="0" lang="en-US" sz="1200" spc="-1" strike="noStrike">
              <a:solidFill>
                <a:srgbClr val="000000"/>
              </a:solidFill>
              <a:latin typeface="Arial"/>
            </a:endParaRPr>
          </a:p>
        </p:txBody>
      </p:sp>
      <p:sp>
        <p:nvSpPr>
          <p:cNvPr id="285" name="Down Arrow 19"/>
          <p:cNvSpPr/>
          <p:nvPr/>
        </p:nvSpPr>
        <p:spPr>
          <a:xfrm>
            <a:off x="5410080" y="1600200"/>
            <a:ext cx="304920" cy="1371600"/>
          </a:xfrm>
          <a:prstGeom prst="downArrow">
            <a:avLst>
              <a:gd name="adj1" fmla="val 50000"/>
              <a:gd name="adj2" fmla="val 49980"/>
            </a:avLst>
          </a:prstGeom>
          <a:solidFill>
            <a:srgbClr val="33339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TextBox 20"/>
          <p:cNvSpPr/>
          <p:nvPr/>
        </p:nvSpPr>
        <p:spPr>
          <a:xfrm>
            <a:off x="5791320" y="1600200"/>
            <a:ext cx="2514600" cy="459000"/>
          </a:xfrm>
          <a:prstGeom prst="rect">
            <a:avLst/>
          </a:prstGeom>
          <a:solidFill>
            <a:srgbClr val="6666ff"/>
          </a:solidFill>
          <a:ln w="3168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Times New Roman"/>
              </a:rPr>
              <a:t>Admit / DC RN Receives Intensive Training in BPMH</a:t>
            </a:r>
            <a:endParaRPr b="0" lang="en-US" sz="1200" spc="-1" strike="noStrike">
              <a:solidFill>
                <a:srgbClr val="000000"/>
              </a:solidFill>
              <a:latin typeface="Arial"/>
            </a:endParaRPr>
          </a:p>
        </p:txBody>
      </p:sp>
      <p:sp>
        <p:nvSpPr>
          <p:cNvPr id="287" name="Down Arrow 21"/>
          <p:cNvSpPr/>
          <p:nvPr/>
        </p:nvSpPr>
        <p:spPr>
          <a:xfrm>
            <a:off x="6705720" y="2057400"/>
            <a:ext cx="304560" cy="1295280"/>
          </a:xfrm>
          <a:prstGeom prst="downArrow">
            <a:avLst>
              <a:gd name="adj1" fmla="val 50000"/>
              <a:gd name="adj2" fmla="val 50031"/>
            </a:avLst>
          </a:prstGeom>
          <a:solidFill>
            <a:srgbClr val="6666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TextBox 22"/>
          <p:cNvSpPr/>
          <p:nvPr/>
        </p:nvSpPr>
        <p:spPr>
          <a:xfrm>
            <a:off x="6095880" y="2133720"/>
            <a:ext cx="2590920" cy="459000"/>
          </a:xfrm>
          <a:prstGeom prst="rect">
            <a:avLst/>
          </a:prstGeom>
          <a:solidFill>
            <a:srgbClr val="800080"/>
          </a:solidFill>
          <a:ln w="3168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Times New Roman"/>
                <a:ea typeface="Times New Roman"/>
              </a:rPr>
              <a:t>Admit / DC RN and MRA Perform BPMH in pts who didn’t get it in ED</a:t>
            </a:r>
            <a:endParaRPr b="0" lang="en-US" sz="1200" spc="-1" strike="noStrike">
              <a:solidFill>
                <a:srgbClr val="000000"/>
              </a:solidFill>
              <a:latin typeface="Arial"/>
            </a:endParaRPr>
          </a:p>
        </p:txBody>
      </p:sp>
      <p:sp>
        <p:nvSpPr>
          <p:cNvPr id="289" name="Down Arrow 23"/>
          <p:cNvSpPr/>
          <p:nvPr/>
        </p:nvSpPr>
        <p:spPr>
          <a:xfrm>
            <a:off x="6934320" y="2590920"/>
            <a:ext cx="304560" cy="228600"/>
          </a:xfrm>
          <a:prstGeom prst="downArrow">
            <a:avLst>
              <a:gd name="adj1" fmla="val 50000"/>
              <a:gd name="adj2" fmla="val 50000"/>
            </a:avLst>
          </a:prstGeom>
          <a:solidFill>
            <a:srgbClr val="800080"/>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TextBox 25"/>
          <p:cNvSpPr/>
          <p:nvPr/>
        </p:nvSpPr>
        <p:spPr>
          <a:xfrm>
            <a:off x="2362320" y="30492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se Study #1: Preliminary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
                                  <p:stCondLst>
                                    <p:cond delay="0"/>
                                  </p:stCondLst>
                                  <p:childTnLst>
                                    <p:set>
                                      <p:cBhvr>
                                        <p:cTn id="36" dur="1" fill="hold">
                                          <p:stCondLst>
                                            <p:cond delay="0"/>
                                          </p:stCondLst>
                                        </p:cTn>
                                        <p:tgtEl>
                                          <p:spTgt spid="28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8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8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8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8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87"/>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8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sults</a:t>
            </a:r>
            <a:endParaRPr b="0" lang="en-US" sz="4400" spc="-1" strike="noStrike">
              <a:solidFill>
                <a:srgbClr val="000000"/>
              </a:solidFill>
              <a:latin typeface="Calibri"/>
            </a:endParaRPr>
          </a:p>
        </p:txBody>
      </p:sp>
      <p:graphicFrame>
        <p:nvGraphicFramePr>
          <p:cNvPr id="292" name=""/>
          <p:cNvGraphicFramePr/>
          <p:nvPr/>
        </p:nvGraphicFramePr>
        <p:xfrm>
          <a:off x="0" y="1371600"/>
          <a:ext cx="9144000" cy="4094280"/>
        </p:xfrm>
        <a:graphic>
          <a:graphicData uri="http://schemas.openxmlformats.org/drawingml/2006/table">
            <a:tbl>
              <a:tblPr/>
              <a:tblGrid>
                <a:gridCol w="2286000"/>
                <a:gridCol w="1670040"/>
                <a:gridCol w="1846440"/>
                <a:gridCol w="1935000"/>
                <a:gridCol w="1406520"/>
              </a:tblGrid>
              <a:tr h="9147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Unintentional Discrepa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e-Interven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N=1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current Contro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N=1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rven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N=1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tal per pat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ue to history err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ue to reconciliation err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gridSpan="5">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otal Potentially harmful discrepa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8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tal per pat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e to history err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0.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e to reconciliation err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TextBox 5"/>
          <p:cNvSpPr/>
          <p:nvPr/>
        </p:nvSpPr>
        <p:spPr>
          <a:xfrm>
            <a:off x="152280" y="571500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ntervention compared with both controls comb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eline Assessment</a:t>
            </a:r>
            <a:endParaRPr b="0" lang="en-US" sz="3200" spc="-1" strike="noStrike">
              <a:solidFill>
                <a:srgbClr val="000000"/>
              </a:solidFill>
              <a:latin typeface="Calibri"/>
            </a:endParaRPr>
          </a:p>
        </p:txBody>
      </p:sp>
      <p:sp>
        <p:nvSpPr>
          <p:cNvPr id="2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If you already have a home medication list on a patient being admitted to the hospital, you shoul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Assume it’s correct if less than a month o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Read the medications and ask the patient to verify them one at a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Have the patient tell you what medications they are taking firs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None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If you already have a home medication list on a patient being admitted to the hospital, you shoul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Assume it’s correct if less than a month o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Read the medications and ask the patient to verify them one at a tim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C. Have the patient tell you what medications they are taking firs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None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Medications that patients might otherwise forget to tell you unless prompted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Non-oral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Non-prescription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Weekly or monthly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PRN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A and 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Medications that patients might otherwise forget to tell you unless prompted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Non-oral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Non-prescription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Weekly or monthly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PRN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A and C </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F.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There is no easy way to figure out what a medication is just by the pill’s appeara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Tru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Fal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There is no easy way to figure out what a medication is just by the pill’s appeara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Tru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B. Fal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Why Medication Reconciliation and the Medication History are Important</a:t>
            </a:r>
            <a:endParaRPr b="0" lang="en-US" sz="3200" spc="-1" strike="noStrike">
              <a:solidFill>
                <a:srgbClr val="000000"/>
              </a:solidFill>
              <a:latin typeface="Calibri"/>
            </a:endParaRPr>
          </a:p>
        </p:txBody>
      </p:sp>
      <p:sp>
        <p:nvSpPr>
          <p:cNvPr id="2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What is the minimum number of medication sources you need to feel confident in the accuracy of a home medication lis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Tw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hre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Fo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What is the minimum number of medication sources you need to feel confident in the accuracy of a home medication lis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On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B. Tw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hre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Fo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Which of the following would not be considered an “objective” source of medication information?</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An ambulatory EMR list</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The patient's own medication list</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he patient's spouse's memor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The patient's medication bottle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None of the above are "objectiv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Which of the following would not be considered an “objective” source of medication information?</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An ambulatory EMR list</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The patient's own medication list</a:t>
            </a:r>
            <a:endParaRPr b="0" lang="en-US" sz="28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C. The patient's spouse's memor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The patient's medication bottle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None of the above are "objectiv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 Your patient has a medication list and you have one as well (from the outpatient EMR). The two sources agree and the patient seems knowledgeable about his medications. A reasonable next step is to:</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Be done taking the medication history</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Gather a third source just to make sur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alk to the patient’s PCP</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None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2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 Your patient has a medication list and you have one as well (from the outpatient EMR). The two sources agree and the patient seems knowledgeable about his medications. A reasonable next step is to:</a:t>
            </a:r>
            <a:endParaRPr b="0" lang="en-US" sz="3200" spc="-1" strike="noStrike">
              <a:solidFill>
                <a:srgbClr val="000000"/>
              </a:solidFill>
              <a:latin typeface="Calibri"/>
            </a:endParaRPr>
          </a:p>
          <a:p>
            <a:pPr lvl="1" marL="727920" indent="-28008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A. Be done taking the medication history</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Gather a third source just to make sur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alk to the patient’s PCP</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None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7. When taking a BPMH, the history taker should ask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edication adher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Medication side-effe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he last time medications were ta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All pharmacies where prescriptions are fil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A and 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7. When taking a BPMH, the history taker should ask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edication adher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Medication side-effe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he last time medications were ta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All pharmacies where prescriptions are fil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A and D </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F.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8. If a patient cannot provide a medication list, cannot recall medications from memory, and cannot resolve discrepancies between lists, the following sources should be utilized:</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CP’s offic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Community pharmacy</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Family members or other caregiver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Recent discharge summary</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eline Test</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8. If a patient cannot provide a medication list, cannot recall medications from memory, and cannot resolve discrepancies between lists, the following sources should be utilized:</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CP’s offic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Community pharmacy</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Family members or other caregiver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Recent discharge summary</a:t>
            </a:r>
            <a:endParaRPr b="0" lang="en-US" sz="2800" spc="-1" strike="noStrike">
              <a:solidFill>
                <a:srgbClr val="000000"/>
              </a:solidFill>
              <a:latin typeface="Calibri"/>
            </a:endParaRPr>
          </a:p>
          <a:p>
            <a:pPr lvl="1" marL="727920" indent="-28008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E.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5"/>
          <p:cNvGrpSpPr/>
          <p:nvPr/>
        </p:nvGrpSpPr>
        <p:grpSpPr>
          <a:xfrm>
            <a:off x="0" y="-76320"/>
            <a:ext cx="9144000" cy="914400"/>
            <a:chOff x="0" y="-76320"/>
            <a:chExt cx="9144000" cy="914400"/>
          </a:xfrm>
        </p:grpSpPr>
        <p:sp>
          <p:nvSpPr>
            <p:cNvPr id="213" name="Rectangle 3"/>
            <p:cNvSpPr/>
            <p:nvPr/>
          </p:nvSpPr>
          <p:spPr>
            <a:xfrm>
              <a:off x="0" y="-76320"/>
              <a:ext cx="9144000" cy="914400"/>
            </a:xfrm>
            <a:prstGeom prst="rect">
              <a:avLst/>
            </a:prstGeom>
            <a:solidFill>
              <a:srgbClr val="4f81bd"/>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4"/>
            <p:cNvSpPr/>
            <p:nvPr/>
          </p:nvSpPr>
          <p:spPr>
            <a:xfrm>
              <a:off x="2160" y="720"/>
              <a:ext cx="91414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ase 1 - History of Present Illness</a:t>
              </a:r>
              <a:endParaRPr b="0" lang="en-US" sz="1800" spc="-1" strike="noStrike">
                <a:solidFill>
                  <a:srgbClr val="000000"/>
                </a:solidFill>
                <a:latin typeface="Arial"/>
              </a:endParaRPr>
            </a:p>
          </p:txBody>
        </p:sp>
      </p:grpSp>
      <p:sp>
        <p:nvSpPr>
          <p:cNvPr id="215" name=""/>
          <p:cNvSpPr txBox="1"/>
          <p:nvPr/>
        </p:nvSpPr>
        <p:spPr>
          <a:xfrm>
            <a:off x="228240" y="990360"/>
            <a:ext cx="8915400" cy="2361960"/>
          </a:xfrm>
          <a:prstGeom prst="rect">
            <a:avLst/>
          </a:prstGeom>
          <a:noFill/>
          <a:ln w="0">
            <a:noFill/>
          </a:ln>
        </p:spPr>
        <p:txBody>
          <a:bodyPr anchor="t">
            <a:normAutofit fontScale="69000"/>
          </a:bodyPr>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 </a:t>
            </a:r>
            <a:r>
              <a:rPr b="0" lang="en-US" sz="3200" spc="-1" strike="noStrike">
                <a:solidFill>
                  <a:srgbClr val="000000"/>
                </a:solidFill>
                <a:latin typeface="Calibri"/>
              </a:rPr>
              <a:t>60-year-old female with non-ischemic cardiomyopathy and progressive biventricular heart failure is admitted for management of acute-on-chronic systolic heart failure and possible heart transplant</a:t>
            </a:r>
            <a:endParaRPr b="0" lang="en-US" sz="32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heduled admission to CHF service</a:t>
            </a:r>
            <a:endParaRPr b="0" lang="en-US" sz="3200" spc="-1" strike="noStrike">
              <a:solidFill>
                <a:srgbClr val="000000"/>
              </a:solidFill>
              <a:latin typeface="Calibri"/>
            </a:endParaRPr>
          </a:p>
          <a:p>
            <a:pPr lvl="1" marL="2757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verflow to general cardiology service</a:t>
            </a:r>
            <a:endParaRPr b="0" lang="en-US" sz="2800" spc="-1" strike="noStrike">
              <a:solidFill>
                <a:srgbClr val="000000"/>
              </a:solidFill>
              <a:latin typeface="Calibri"/>
            </a:endParaRPr>
          </a:p>
          <a:p>
            <a:pPr lvl="1" marL="2757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te admission to a busy long-call team</a:t>
            </a:r>
            <a:endParaRPr b="0" lang="en-US" sz="2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 Play</a:t>
            </a:r>
            <a:endParaRPr b="0"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ll play the role of the pati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ohn Doe, 68-year-old male with CAD, admitted for crescendo angin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PI: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x’d with CAD 1 year prior, stent plac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hest pain started 2 months ago, occurring more frequently in past week (3-4 times a day), requiring more NTG for pain relief</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4 AM day of admission, had more intense CP, minimally improved with 3 NTG. +SOB, sweats. Called PCP </a:t>
            </a:r>
            <a:r>
              <a:rPr b="0" lang="en-US" sz="2400" spc="-1" strike="noStrike">
                <a:solidFill>
                  <a:srgbClr val="000000"/>
                </a:solidFill>
                <a:latin typeface="Wingdings"/>
                <a:ea typeface="Wingdings"/>
              </a:rPr>
              <a:t></a:t>
            </a:r>
            <a:r>
              <a:rPr b="0" lang="en-US" sz="2400" spc="-1" strike="noStrike">
                <a:solidFill>
                  <a:srgbClr val="000000"/>
                </a:solidFill>
                <a:latin typeface="Calibri"/>
              </a:rPr>
              <a:t> 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 Play</a:t>
            </a:r>
            <a:endParaRPr b="0" lang="en-US" sz="4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MHx</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ronary artery disease (CAD), 1 stent placed in 2013</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ypertens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ou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iabetes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sthma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 Play</a:t>
            </a:r>
            <a:endParaRPr b="0" lang="en-US" sz="44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view the patient regarding his medic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Think aloud” as you go through the proc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Access” sources of medication data before or after seeing the patient as you normally would. You can ask for additional sources of data, then I will provide those sources if ask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the end, you should compile and record the best possible medication lis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 Play</a:t>
            </a:r>
            <a:endParaRPr b="0" lang="en-US" sz="4400" spc="-1" strike="noStrike">
              <a:solidFill>
                <a:srgbClr val="000000"/>
              </a:solidFill>
              <a:latin typeface="Calibri"/>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John Doe’s Discharge Orders/Instructions - From BWH admission 6 months  prior  to current  admiss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umadin (Warfarin Sodium) 7.5 mg PO QP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lopurinol 50 mg PO Dail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eric Coated ASA 325 mg PO Dail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lavix (Clopidogrel) 75 mg PO Dail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lchicine 0.6 mg PO BI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lyburide 1.25 mg PO BI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mdur ER (Isosorbide mononitrate [SR]) 30 mg PO Dail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toprolol  Succinate Extended Release 50 mg PO Dail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Zocor (Simvastatin) 80 mg PO Bedtim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3" descr=""/>
          <p:cNvPicPr/>
          <p:nvPr/>
        </p:nvPicPr>
        <p:blipFill>
          <a:blip r:embed="rId1"/>
          <a:stretch/>
        </p:blipFill>
        <p:spPr>
          <a:xfrm>
            <a:off x="0" y="1066680"/>
            <a:ext cx="9045720" cy="4105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3" descr=""/>
          <p:cNvPicPr/>
          <p:nvPr/>
        </p:nvPicPr>
        <p:blipFill>
          <a:blip r:embed="rId1"/>
          <a:stretch/>
        </p:blipFill>
        <p:spPr>
          <a:xfrm>
            <a:off x="0" y="1066680"/>
            <a:ext cx="8915400" cy="4632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3"/>
          <p:cNvSpPr/>
          <p:nvPr/>
        </p:nvSpPr>
        <p:spPr>
          <a:xfrm>
            <a:off x="685800" y="687240"/>
            <a:ext cx="7696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Note: these medications are not in their bottles; the clinician should identify pills using an appropriate source, such as Drugs.com</a:t>
            </a:r>
            <a:endParaRPr b="0" lang="en-US" sz="1600" spc="-1" strike="noStrike">
              <a:solidFill>
                <a:srgbClr val="000000"/>
              </a:solidFill>
              <a:latin typeface="Arial"/>
            </a:endParaRPr>
          </a:p>
        </p:txBody>
      </p:sp>
      <p:pic>
        <p:nvPicPr>
          <p:cNvPr id="340" name="Picture 3" descr=""/>
          <p:cNvPicPr/>
          <p:nvPr/>
        </p:nvPicPr>
        <p:blipFill>
          <a:blip r:embed="rId1"/>
          <a:stretch/>
        </p:blipFill>
        <p:spPr>
          <a:xfrm>
            <a:off x="46080" y="1371600"/>
            <a:ext cx="9097920" cy="4048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3" descr=""/>
          <p:cNvPicPr/>
          <p:nvPr/>
        </p:nvPicPr>
        <p:blipFill>
          <a:blip r:embed="rId1"/>
          <a:stretch/>
        </p:blipFill>
        <p:spPr>
          <a:xfrm>
            <a:off x="152280" y="838080"/>
            <a:ext cx="8778960" cy="5007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
          <p:cNvGraphicFramePr/>
          <p:nvPr/>
        </p:nvGraphicFramePr>
        <p:xfrm>
          <a:off x="0" y="708120"/>
          <a:ext cx="9144000" cy="6335640"/>
        </p:xfrm>
        <a:graphic>
          <a:graphicData uri="http://schemas.openxmlformats.org/drawingml/2006/table">
            <a:tbl>
              <a:tblPr/>
              <a:tblGrid>
                <a:gridCol w="7696080"/>
                <a:gridCol w="1447920"/>
              </a:tblGrid>
              <a:tr h="52236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Asks the patient open-ended questions about what medications she or he is taking (i.e., doesn’t read the list and ask if it is correct)</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92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Uses probing questions to elicit additional information: non-oral meds, non-daily meds, PRN medications, non-prescription med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236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Uses other probes to elicit additional medications: common reasons for PRNs, meds for problems in the problem list, meds prescribed by specialist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172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Asks about adherence</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920">
                <a:tc>
                  <a:txBody>
                    <a:bodyPr lIns="64800" rIns="64800" tIns="0" bIns="0" anchor="t">
                      <a:noAutofit/>
                    </a:bodyPr>
                    <a:p>
                      <a:pPr>
                        <a:lnSpc>
                          <a:spcPct val="107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Uses at least two sources of medications, ideally one provided by the patient and one from another “objective” source (e.g., patient’s own list and ambulatory EMR med list)</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2640">
                <a:tc>
                  <a:txBody>
                    <a:bodyPr lIns="64800" rIns="64800" tIns="0" bIns="0" anchor="t">
                      <a:noAutofit/>
                    </a:bodyPr>
                    <a:p>
                      <a:pPr>
                        <a:lnSpc>
                          <a:spcPct val="107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Knows when to stop getting additional sources (e.g., if patient has a list or pill bottles and seems completely reliable and data are not that dissimilar from the other sources, and/or the differences can be explained)</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408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Knows when to get additional sources if available (e.g., if patient is not sure, relying on memory only or cannot resolve discrepancies among the various sources of medication information)</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264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When additional sources are needed, uses available sources ﬁrst (e.g., pill bottles present). Then obtains pharmacy data. If the medication history is still not clear: obtains outpatient provider lists, pill bottles from home and/or other source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920">
                <a:tc>
                  <a:txBody>
                    <a:bodyPr lIns="64800" rIns="64800" tIns="0" bIns="0" anchor="t">
                      <a:noAutofit/>
                    </a:bodyPr>
                    <a:p>
                      <a:pPr>
                        <a:lnSpc>
                          <a:spcPct val="107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Uses resources like Drugs.com to identify loose medications (i.e., for a bag of medications, not in their bottles, provided by a patient)</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9840">
                <a:tc>
                  <a:txBody>
                    <a:bodyPr lIns="64800" rIns="64800" tIns="0" bIns="0" anchor="t">
                      <a:noAutofit/>
                    </a:bodyPr>
                    <a:p>
                      <a:pPr>
                        <a:lnSpc>
                          <a:spcPct val="107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Returns to patient to review new information, resolve all remaining discrepancie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064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Gets help from other team members when needed</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6600">
                <a:tc>
                  <a:txBody>
                    <a:bodyPr lIns="64800" rIns="64800" tIns="0" bIns="0" anchor="t">
                      <a:noAutofit/>
                    </a:bodyPr>
                    <a:p>
                      <a:pP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Educates the patient and/or caregiver of the importance of carrying an accurate and up to date medication list with them</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43" name="TextBox 3"/>
          <p:cNvSpPr/>
          <p:nvPr/>
        </p:nvSpPr>
        <p:spPr>
          <a:xfrm>
            <a:off x="762120" y="0"/>
            <a:ext cx="7467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igh-Performance Behavi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Take the</a:t>
            </a:r>
            <a:br>
              <a:rPr sz="4400"/>
            </a:br>
            <a:r>
              <a:rPr b="0" lang="en-US" sz="4400" spc="-1" strike="noStrike">
                <a:solidFill>
                  <a:srgbClr val="000000"/>
                </a:solidFill>
                <a:latin typeface="Calibri"/>
              </a:rPr>
              <a:t>Best Possible Medicatio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Content Placeholder 2"/>
          <p:cNvSpPr/>
          <p:nvPr/>
        </p:nvSpPr>
        <p:spPr>
          <a:xfrm>
            <a:off x="228600" y="990720"/>
            <a:ext cx="891540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ypertension</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yperlipidemia</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abetes mellitus type II</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ypothyroidism</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n-ischemic CMP (EF 20-30%)</a:t>
            </a:r>
            <a:endParaRPr b="0" lang="en-US" sz="3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MS PGothic"/>
              </a:rPr>
              <a:t>Severe MR</a:t>
            </a:r>
            <a:endParaRPr b="0" lang="en-US" sz="3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MS PGothic"/>
              </a:rPr>
              <a:t>Moderate AS</a:t>
            </a:r>
            <a:endParaRPr b="0" lang="en-US" sz="3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MS PGothic"/>
              </a:rPr>
              <a:t>Moderate to Severe TR</a:t>
            </a:r>
            <a:endParaRPr b="0" lang="en-US" sz="3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MS PGothic"/>
              </a:rPr>
              <a:t>Severe pulmonary hypertension</a:t>
            </a:r>
            <a:endParaRPr b="0" lang="en-US" sz="32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MS PGothic"/>
              </a:rPr>
              <a:t>RV dysfunction</a:t>
            </a:r>
            <a:endParaRPr b="0" lang="en-US" sz="3200" spc="-1" strike="noStrike">
              <a:solidFill>
                <a:srgbClr val="000000"/>
              </a:solidFill>
              <a:latin typeface="Arial"/>
            </a:endParaRPr>
          </a:p>
        </p:txBody>
      </p:sp>
      <p:grpSp>
        <p:nvGrpSpPr>
          <p:cNvPr id="217" name="Group 5"/>
          <p:cNvGrpSpPr/>
          <p:nvPr/>
        </p:nvGrpSpPr>
        <p:grpSpPr>
          <a:xfrm>
            <a:off x="0" y="-76320"/>
            <a:ext cx="9144000" cy="914400"/>
            <a:chOff x="0" y="-76320"/>
            <a:chExt cx="9144000" cy="914400"/>
          </a:xfrm>
        </p:grpSpPr>
        <p:sp>
          <p:nvSpPr>
            <p:cNvPr id="218" name="Rectangle 3"/>
            <p:cNvSpPr/>
            <p:nvPr/>
          </p:nvSpPr>
          <p:spPr>
            <a:xfrm>
              <a:off x="0" y="-76320"/>
              <a:ext cx="9144000" cy="914400"/>
            </a:xfrm>
            <a:prstGeom prst="rect">
              <a:avLst/>
            </a:prstGeom>
            <a:solidFill>
              <a:srgbClr val="4f81bd"/>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Rectangle 4"/>
            <p:cNvSpPr/>
            <p:nvPr/>
          </p:nvSpPr>
          <p:spPr>
            <a:xfrm>
              <a:off x="2160" y="720"/>
              <a:ext cx="91414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ase 1 – Past Medical History</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oals of a Good Medication History</a:t>
            </a:r>
            <a:endParaRPr b="0" lang="en-US" sz="4400" spc="-1" strike="noStrike">
              <a:solidFill>
                <a:srgbClr val="000000"/>
              </a:solidFill>
              <a:latin typeface="Calibri"/>
            </a:endParaRPr>
          </a:p>
        </p:txBody>
      </p:sp>
      <p:sp>
        <p:nvSpPr>
          <p:cNvPr id="346"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obtain complete information on the patient’s regimen, including the:</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me of each medication</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mulation (e.g., extended release)</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osage</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ute</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requenc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distinguish between what patients are supposed to be on vs. what they actually ta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story Also Ideally Includes</a:t>
            </a:r>
            <a:endParaRPr b="0" lang="en-US" sz="4400" spc="-1" strike="noStrike">
              <a:solidFill>
                <a:srgbClr val="000000"/>
              </a:solidFill>
              <a:latin typeface="Calibri"/>
            </a:endParaRPr>
          </a:p>
        </p:txBody>
      </p:sp>
      <p:sp>
        <p:nvSpPr>
          <p:cNvPr id="348" name=""/>
          <p:cNvSpPr txBox="1"/>
          <p:nvPr/>
        </p:nvSpPr>
        <p:spPr>
          <a:xfrm>
            <a:off x="457200" y="1417320"/>
            <a:ext cx="8229600" cy="4708440"/>
          </a:xfrm>
          <a:prstGeom prst="rect">
            <a:avLst/>
          </a:prstGeom>
          <a:noFill/>
          <a:ln w="0">
            <a:noFill/>
          </a:ln>
        </p:spPr>
        <p:txBody>
          <a:bodyPr anchor="t">
            <a:normAutofit fontScale="98000"/>
          </a:bodyPr>
          <a:p>
            <a:pPr marL="335880" indent="-3358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indications</a:t>
            </a:r>
            <a:endParaRPr b="0" lang="en-US" sz="3200" spc="-1" strike="noStrike">
              <a:solidFill>
                <a:srgbClr val="000000"/>
              </a:solidFill>
              <a:latin typeface="Calibri"/>
            </a:endParaRPr>
          </a:p>
          <a:p>
            <a:pPr marL="335880" indent="-3358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y recent changes in the regimen</a:t>
            </a:r>
            <a:endParaRPr b="0" lang="en-US" sz="3200" spc="-1" strike="noStrike">
              <a:solidFill>
                <a:srgbClr val="000000"/>
              </a:solidFill>
              <a:latin typeface="Calibri"/>
            </a:endParaRPr>
          </a:p>
          <a:p>
            <a:pPr marL="335880" indent="-3358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ver-the-counter drugs</a:t>
            </a:r>
            <a:endParaRPr b="0" lang="en-US" sz="3200" spc="-1" strike="noStrike">
              <a:solidFill>
                <a:srgbClr val="000000"/>
              </a:solidFill>
              <a:latin typeface="Calibri"/>
            </a:endParaRPr>
          </a:p>
          <a:p>
            <a:pPr marL="335880" indent="-3358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mple medications</a:t>
            </a:r>
            <a:endParaRPr b="0" lang="en-US" sz="3200" spc="-1" strike="noStrike">
              <a:solidFill>
                <a:srgbClr val="000000"/>
              </a:solidFill>
              <a:latin typeface="Calibri"/>
            </a:endParaRPr>
          </a:p>
          <a:p>
            <a:pPr marL="335880" indent="-3358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tamins, herbals, nutraceuticals, supplements</a:t>
            </a:r>
            <a:endParaRPr b="0" lang="en-US" sz="3200" spc="-1" strike="noStrike">
              <a:solidFill>
                <a:srgbClr val="000000"/>
              </a:solidFill>
              <a:latin typeface="Calibri"/>
            </a:endParaRPr>
          </a:p>
          <a:p>
            <a:pPr marL="335880" indent="-3358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the patient last took each medication</a:t>
            </a:r>
            <a:endParaRPr b="0" lang="en-US" sz="3200" spc="-1" strike="noStrike">
              <a:solidFill>
                <a:srgbClr val="000000"/>
              </a:solidFill>
              <a:latin typeface="Calibri"/>
            </a:endParaRPr>
          </a:p>
          <a:p>
            <a:pPr marL="335880" indent="-3358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ergies and the associated reactions</a:t>
            </a:r>
            <a:endParaRPr b="0" lang="en-US" sz="3200" spc="-1" strike="noStrike">
              <a:solidFill>
                <a:srgbClr val="000000"/>
              </a:solidFill>
              <a:latin typeface="Calibri"/>
            </a:endParaRPr>
          </a:p>
          <a:p>
            <a:pPr marL="335880" indent="-3358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scriber(s)</a:t>
            </a:r>
            <a:endParaRPr b="0" lang="en-US" sz="3200" spc="-1" strike="noStrike">
              <a:solidFill>
                <a:srgbClr val="000000"/>
              </a:solidFill>
              <a:latin typeface="Calibri"/>
            </a:endParaRPr>
          </a:p>
          <a:p>
            <a:pPr marL="335880" indent="-3358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armacy(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t’s Not Easy!</a:t>
            </a:r>
            <a:endParaRPr b="0" lang="en-US" sz="4400" spc="-1" strike="noStrike">
              <a:solidFill>
                <a:srgbClr val="000000"/>
              </a:solidFill>
              <a:latin typeface="Calibri"/>
            </a:endParaRPr>
          </a:p>
        </p:txBody>
      </p:sp>
      <p:sp>
        <p:nvSpPr>
          <p:cNvPr id="350" name=""/>
          <p:cNvSpPr txBox="1"/>
          <p:nvPr/>
        </p:nvSpPr>
        <p:spPr>
          <a:xfrm>
            <a:off x="457200" y="1218960"/>
            <a:ext cx="8229600" cy="505908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health care professionals not trained to take a good medication history</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ients may be unfamiliar with their med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ailable information may be incomplete, out of date, or conflicting</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rrors are common</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s: omitting a medication, additional medication, wrong dosage or frequency</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e time consuming</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t training makes the process better and faster</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ps on Taking a Good History</a:t>
            </a:r>
            <a:endParaRPr b="0" lang="en-US" sz="4400" spc="-1" strike="noStrike">
              <a:solidFill>
                <a:srgbClr val="000000"/>
              </a:solidFill>
              <a:latin typeface="Calibri"/>
            </a:endParaRPr>
          </a:p>
        </p:txBody>
      </p:sp>
      <p:sp>
        <p:nvSpPr>
          <p:cNvPr id="352" name=""/>
          <p:cNvSpPr txBox="1"/>
          <p:nvPr/>
        </p:nvSpPr>
        <p:spPr>
          <a:xfrm>
            <a:off x="457200" y="1417320"/>
            <a:ext cx="8229600" cy="470844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y to use at least </a:t>
            </a:r>
            <a:r>
              <a:rPr b="1" lang="en-US" sz="2800" spc="-1" strike="noStrike">
                <a:solidFill>
                  <a:srgbClr val="0070c0"/>
                </a:solidFill>
                <a:latin typeface="Calibri"/>
              </a:rPr>
              <a:t>two sources </a:t>
            </a:r>
            <a:r>
              <a:rPr b="0" lang="en-US" sz="2800" spc="-1" strike="noStrike">
                <a:solidFill>
                  <a:srgbClr val="000000"/>
                </a:solidFill>
                <a:latin typeface="Calibri"/>
              </a:rPr>
              <a:t>of information when possible and explore discrepancies between them</a:t>
            </a:r>
            <a:endParaRPr b="0" lang="en-US" sz="2800" spc="-1" strike="noStrike">
              <a:solidFill>
                <a:srgbClr val="000000"/>
              </a:solidFill>
              <a:latin typeface="Calibri"/>
            </a:endParaRPr>
          </a:p>
          <a:p>
            <a:pPr lvl="1" marL="727920" indent="-2800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1 = from patient</a:t>
            </a:r>
            <a:endParaRPr b="0" lang="en-US" sz="2400" spc="-1" strike="noStrike">
              <a:solidFill>
                <a:srgbClr val="000000"/>
              </a:solidFill>
              <a:latin typeface="Calibri"/>
            </a:endParaRPr>
          </a:p>
          <a:p>
            <a:pPr lvl="2" marL="1119960" indent="-22392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atient (from interview)</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atient-owned medication lists</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Family members and other caregivers</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ill bottles </a:t>
            </a:r>
            <a:endParaRPr b="0" lang="en-US" sz="2000" spc="-1" strike="noStrike">
              <a:solidFill>
                <a:srgbClr val="000000"/>
              </a:solidFill>
              <a:latin typeface="Calibri"/>
            </a:endParaRPr>
          </a:p>
          <a:p>
            <a:pPr lvl="1" marL="727920" indent="-2800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urce #2 = from elsewhere</a:t>
            </a:r>
            <a:endParaRPr b="0" lang="en-US" sz="2400" spc="-1" strike="noStrike">
              <a:solidFill>
                <a:srgbClr val="000000"/>
              </a:solidFill>
              <a:latin typeface="Calibri"/>
            </a:endParaRPr>
          </a:p>
          <a:p>
            <a:pPr lvl="2" marL="1119960" indent="-22392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ischarge medication orders from recent hospitalizations</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Medication lists and/or notes from outpatient providers</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Transfer orders from other facilities</a:t>
            </a:r>
            <a:endParaRPr b="0" lang="en-US" sz="2000" spc="-1" strike="noStrike">
              <a:solidFill>
                <a:srgbClr val="000000"/>
              </a:solidFill>
              <a:latin typeface="Calibri"/>
            </a:endParaRPr>
          </a:p>
          <a:p>
            <a:pPr lvl="2" marL="1119960" indent="-22392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Pharmacy(ies) where patient fills prescrip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a Medication List</a:t>
            </a:r>
            <a:endParaRPr b="0" lang="en-US" sz="4400" spc="-1" strike="noStrike">
              <a:solidFill>
                <a:srgbClr val="000000"/>
              </a:solidFill>
              <a:latin typeface="Calibri"/>
            </a:endParaRPr>
          </a:p>
        </p:txBody>
      </p:sp>
      <p:sp>
        <p:nvSpPr>
          <p:cNvPr id="354"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save time and reduce errors in the medication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st may not be current or accu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 and verify list with the patient</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on’t just read the list and ask patient if it is o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Ask patient to tell you what they are taking, how much, and how oft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n use list to explore discrepancies and confir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be to identify additional medic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Probe for Information</a:t>
            </a:r>
            <a:endParaRPr b="0" lang="en-US" sz="4400" spc="-1" strike="noStrike">
              <a:solidFill>
                <a:srgbClr val="000000"/>
              </a:solidFill>
              <a:latin typeface="Calibri"/>
            </a:endParaRPr>
          </a:p>
        </p:txBody>
      </p:sp>
      <p:sp>
        <p:nvSpPr>
          <p:cNvPr id="356" name=""/>
          <p:cNvSpPr txBox="1"/>
          <p:nvPr/>
        </p:nvSpPr>
        <p:spPr>
          <a:xfrm>
            <a:off x="457200" y="1417320"/>
            <a:ext cx="8229600" cy="47084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gin with an open ended question</a:t>
            </a:r>
            <a:endParaRPr b="0" lang="en-US" sz="3200" spc="-1" strike="noStrike">
              <a:solidFill>
                <a:srgbClr val="000000"/>
              </a:solidFill>
              <a:latin typeface="Calibri"/>
            </a:endParaRPr>
          </a:p>
          <a:p>
            <a:pPr lvl="1" marL="735480" indent="-2829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What medicines do you take?</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k about scheduled medications</a:t>
            </a:r>
            <a:endParaRPr b="0" lang="en-US" sz="3200" spc="-1" strike="noStrike">
              <a:solidFill>
                <a:srgbClr val="000000"/>
              </a:solidFill>
              <a:latin typeface="Calibri"/>
            </a:endParaRPr>
          </a:p>
          <a:p>
            <a:pPr lvl="1" marL="735480" indent="-2829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Which medicines do you take everyday, regardless of how you feel?</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 </a:t>
            </a:r>
            <a:r>
              <a:rPr b="0" lang="en-US" sz="3200" spc="-1" strike="noStrike">
                <a:solidFill>
                  <a:srgbClr val="000000"/>
                </a:solidFill>
                <a:latin typeface="Calibri"/>
              </a:rPr>
              <a:t>Ask about prn medications</a:t>
            </a:r>
            <a:endParaRPr b="0" lang="en-US" sz="3200" spc="-1" strike="noStrike">
              <a:solidFill>
                <a:srgbClr val="000000"/>
              </a:solidFill>
              <a:latin typeface="Calibri"/>
            </a:endParaRPr>
          </a:p>
          <a:p>
            <a:pPr lvl="1" marL="735480" indent="-2829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Which medicines do you take only sometimes?</a:t>
            </a:r>
            <a:endParaRPr b="0" lang="en-US" sz="2800" spc="-1" strike="noStrike">
              <a:solidFill>
                <a:srgbClr val="000000"/>
              </a:solidFill>
              <a:latin typeface="Calibri"/>
            </a:endParaRPr>
          </a:p>
          <a:p>
            <a:pPr lvl="1" marL="735480" indent="-2829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Do you often take something for headaches? Allergies? To help you fall asleep? When you get a cold? For heartburn?</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edication History Probes</a:t>
            </a:r>
            <a:endParaRPr b="0" lang="en-US" sz="4400" spc="-1" strike="noStrike">
              <a:solidFill>
                <a:srgbClr val="000000"/>
              </a:solidFill>
              <a:latin typeface="Calibri"/>
            </a:endParaRPr>
          </a:p>
        </p:txBody>
      </p:sp>
      <p:sp>
        <p:nvSpPr>
          <p:cNvPr id="358" name=""/>
          <p:cNvSpPr txBox="1"/>
          <p:nvPr/>
        </p:nvSpPr>
        <p:spPr>
          <a:xfrm>
            <a:off x="457200" y="129492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ll in gap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ach medication, elicit dose and time(s) of day the patient takes it, if not already provided </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sk about extended-release forms and rout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sess the purpose of each medication</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What is that medicine for? Do you take anything else for th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 </a:t>
            </a:r>
            <a:r>
              <a:rPr b="0" lang="en-US" sz="3200" spc="-1" strike="noStrike">
                <a:solidFill>
                  <a:srgbClr val="000000"/>
                </a:solidFill>
                <a:latin typeface="Calibri"/>
              </a:rPr>
              <a:t>Ask about meds for specific conditions</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What medicines do you take for your diabetes, high blood pressure,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edication History Probes</a:t>
            </a:r>
            <a:endParaRPr b="0" lang="en-US" sz="4400" spc="-1" strike="noStrike">
              <a:solidFill>
                <a:srgbClr val="000000"/>
              </a:solidFill>
              <a:latin typeface="Calibri"/>
            </a:endParaRPr>
          </a:p>
        </p:txBody>
      </p:sp>
      <p:sp>
        <p:nvSpPr>
          <p:cNvPr id="360" name=""/>
          <p:cNvSpPr txBox="1"/>
          <p:nvPr/>
        </p:nvSpPr>
        <p:spPr>
          <a:xfrm>
            <a:off x="457200" y="141768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k about medications that are easy to forget</a:t>
            </a:r>
            <a:endParaRPr b="0" lang="en-US" sz="3200" spc="-1" strike="noStrike">
              <a:solidFill>
                <a:srgbClr val="000000"/>
              </a:solidFill>
              <a:latin typeface="Calibri"/>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Do you take any inhalers, nebulizers, nasal sprays, ointments, creams, eye drops, ear drops, patches, injections, or suppositories?</a:t>
            </a:r>
            <a:endParaRPr b="0" lang="en-US" sz="2800" spc="-1" strike="noStrike">
              <a:solidFill>
                <a:srgbClr val="000000"/>
              </a:solidFill>
              <a:latin typeface="Calibri"/>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Do you take any medicines in the evening or night?</a:t>
            </a:r>
            <a:endParaRPr b="0" lang="en-US" sz="2800" spc="-1" strike="noStrike">
              <a:solidFill>
                <a:srgbClr val="000000"/>
              </a:solidFill>
              <a:latin typeface="Calibri"/>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Do you take any medicines weekly or monthly? </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 </a:t>
            </a:r>
            <a:r>
              <a:rPr b="0" lang="en-US" sz="3200" spc="-1" strike="noStrike">
                <a:solidFill>
                  <a:srgbClr val="000000"/>
                </a:solidFill>
                <a:latin typeface="Calibri"/>
              </a:rPr>
              <a:t>Ask about non-prescription products</a:t>
            </a:r>
            <a:endParaRPr b="0" lang="en-US" sz="3200" spc="-1" strike="noStrike">
              <a:solidFill>
                <a:srgbClr val="000000"/>
              </a:solidFill>
              <a:latin typeface="Calibri"/>
            </a:endParaRPr>
          </a:p>
          <a:p>
            <a:pPr lvl="1" marL="727920" indent="-2800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Which medicines do you take that don’t require a prescription? Any over-the-counter medicines, vitamins, herbals, supplements?</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edication History Probes</a:t>
            </a:r>
            <a:endParaRPr b="0" lang="en-US" sz="44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sess when was the last dose of each m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When did you take the last dose of your [warfarin, blood pressure medicine, insuli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k about adhere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Many patients don’t take their medicines exactly as they should every day. In the last week, how many days have you missed a dose of one of your medicin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3344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me-Saving Tips</a:t>
            </a:r>
            <a:endParaRPr b="0" lang="en-US" sz="4400" spc="-1" strike="noStrike">
              <a:solidFill>
                <a:srgbClr val="000000"/>
              </a:solidFill>
              <a:latin typeface="Calibri"/>
            </a:endParaRPr>
          </a:p>
        </p:txBody>
      </p:sp>
      <p:sp>
        <p:nvSpPr>
          <p:cNvPr id="364" name=""/>
          <p:cNvSpPr txBox="1"/>
          <p:nvPr/>
        </p:nvSpPr>
        <p:spPr>
          <a:xfrm>
            <a:off x="457200" y="1523520"/>
            <a:ext cx="8229600" cy="49071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rt with easily accessible sourc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dication list from outpatient medical recor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ent hospital discharge summa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scription fill information from patient’s local pharmacy or national database if availabl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tient’s home medication li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tient’s pill bottles if availabl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finish quickly if</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r list agrees with patient’s list or bottles, 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tient is reliable and can explain differ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Content Placeholder 2"/>
          <p:cNvSpPr/>
          <p:nvPr/>
        </p:nvSpPr>
        <p:spPr>
          <a:xfrm>
            <a:off x="228600" y="990720"/>
            <a:ext cx="891540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artan 50 mg PO daily</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ironolactone 25 mg PO daily</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A 81 mg PO daily</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urosemide 80 mg PO BID </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goxin 0.25 mg PO daily</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rvedilol 6.25 mg PO BID</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avastatin 40 mg PO daily</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meprazole 40 mg PO daily</a:t>
            </a:r>
            <a:endParaRPr b="0" lang="en-US" sz="3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xagliptin/Metformin 5 mg /1000 mg PO daily</a:t>
            </a:r>
            <a:endParaRPr b="0" lang="en-US" sz="32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Arial"/>
              </a:rPr>
              <a:t>Levothyroxine 25 mcg </a:t>
            </a:r>
            <a:r>
              <a:rPr b="0" lang="en-US" sz="3200" spc="-1" strike="noStrike">
                <a:solidFill>
                  <a:srgbClr val="000000"/>
                </a:solidFill>
                <a:latin typeface="Arial"/>
                <a:ea typeface="Arial"/>
              </a:rPr>
              <a:t>PO daily</a:t>
            </a:r>
            <a:endParaRPr b="0" lang="en-US" sz="32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grpSp>
        <p:nvGrpSpPr>
          <p:cNvPr id="221" name="Group 5"/>
          <p:cNvGrpSpPr/>
          <p:nvPr/>
        </p:nvGrpSpPr>
        <p:grpSpPr>
          <a:xfrm>
            <a:off x="0" y="-76320"/>
            <a:ext cx="9144000" cy="914400"/>
            <a:chOff x="0" y="-76320"/>
            <a:chExt cx="9144000" cy="914400"/>
          </a:xfrm>
        </p:grpSpPr>
        <p:sp>
          <p:nvSpPr>
            <p:cNvPr id="222" name="Rectangle 3"/>
            <p:cNvSpPr/>
            <p:nvPr/>
          </p:nvSpPr>
          <p:spPr>
            <a:xfrm>
              <a:off x="0" y="-76320"/>
              <a:ext cx="9144000" cy="914400"/>
            </a:xfrm>
            <a:prstGeom prst="rect">
              <a:avLst/>
            </a:prstGeom>
            <a:solidFill>
              <a:srgbClr val="4f81bd"/>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Rectangle 4"/>
            <p:cNvSpPr/>
            <p:nvPr/>
          </p:nvSpPr>
          <p:spPr>
            <a:xfrm>
              <a:off x="2160" y="720"/>
              <a:ext cx="91414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ase 1 – Preadmission Medication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n to Gather Additional Data</a:t>
            </a:r>
            <a:endParaRPr b="0" lang="en-US" sz="4000" spc="-1" strike="noStrike">
              <a:solidFill>
                <a:srgbClr val="000000"/>
              </a:solidFill>
              <a:latin typeface="Calibri"/>
            </a:endParaRPr>
          </a:p>
        </p:txBody>
      </p:sp>
      <p:sp>
        <p:nvSpPr>
          <p:cNvPr id="366" name="PlaceHolder 2"/>
          <p:cNvSpPr>
            <a:spLocks noGrp="1"/>
          </p:cNvSpPr>
          <p:nvPr>
            <p:ph/>
          </p:nvPr>
        </p:nvSpPr>
        <p:spPr>
          <a:xfrm>
            <a:off x="609120" y="1417320"/>
            <a:ext cx="8077320" cy="4708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ient is unsure about medication names, doses, and ind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ient cannot explain discrepancies in li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ient doesn’t have a list and can’t provide medication information from mem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urces of information not updated recent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missing information is potentially dangero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athering Additional Data</a:t>
            </a:r>
            <a:endParaRPr b="0" lang="en-US" sz="4000" spc="-1" strike="noStrike">
              <a:solidFill>
                <a:srgbClr val="000000"/>
              </a:solidFill>
              <a:latin typeface="Calibri"/>
            </a:endParaRPr>
          </a:p>
        </p:txBody>
      </p:sp>
      <p:sp>
        <p:nvSpPr>
          <p:cNvPr id="368" name="PlaceHolder 2"/>
          <p:cNvSpPr>
            <a:spLocks noGrp="1"/>
          </p:cNvSpPr>
          <p:nvPr>
            <p:ph/>
          </p:nvPr>
        </p:nvSpPr>
        <p:spPr>
          <a:xfrm>
            <a:off x="609120" y="1218960"/>
            <a:ext cx="807732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act outpatient pharmacies or access database of pharmacy information (if not already d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act outpatient provid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e patient’s family bring in the pill bottles from hom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olve as many discrepancies as you can, the return to the patient with directed questions to complete the li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needed, get help from a pharmacist</a:t>
            </a:r>
            <a:endParaRPr b="0" lang="en-US" sz="32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ideos</a:t>
            </a:r>
            <a:endParaRPr b="0" lang="en-US" sz="44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ing an accurate history when a medication list is available (7:4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ing an accurate history without a medication list (10:3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https://www.youtube.com/watch?t=11&amp;v=It8KfitBe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alibri"/>
              </a:rPr>
              <a:t>Site-Specific Information</a:t>
            </a:r>
            <a:endParaRPr b="0" lang="en-US" sz="44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ert Site Specific Information He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ing EH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cal sources of medication inform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ocumentation requir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icies and Procedur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ther Techniques You Can Use</a:t>
            </a:r>
            <a:endParaRPr b="0" lang="en-US" sz="4400" spc="-1" strike="noStrike">
              <a:solidFill>
                <a:srgbClr val="000000"/>
              </a:solidFill>
              <a:latin typeface="Calibri"/>
            </a:endParaRPr>
          </a:p>
        </p:txBody>
      </p:sp>
      <p:sp>
        <p:nvSpPr>
          <p:cNvPr id="374"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a pill identifier to help patients recognize their medicines (e.g., Drugs.com)</a:t>
            </a:r>
            <a:endParaRPr b="0" lang="en-US" sz="3200" spc="-1" strike="noStrike">
              <a:solidFill>
                <a:srgbClr val="000000"/>
              </a:solidFill>
              <a:latin typeface="Calibri"/>
            </a:endParaRPr>
          </a:p>
        </p:txBody>
      </p:sp>
      <p:pic>
        <p:nvPicPr>
          <p:cNvPr id="375" name="Picture 2" descr=""/>
          <p:cNvPicPr/>
          <p:nvPr/>
        </p:nvPicPr>
        <p:blipFill>
          <a:blip r:embed="rId1"/>
          <a:srcRect l="13054" t="21875" r="40479" b="41585"/>
          <a:stretch/>
        </p:blipFill>
        <p:spPr>
          <a:xfrm>
            <a:off x="3124080" y="2971800"/>
            <a:ext cx="5132520" cy="2268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2286000" y="725400"/>
            <a:ext cx="5443560" cy="6132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8520"/>
            <a:ext cx="78868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   </a:t>
            </a:r>
            <a:r>
              <a:rPr b="0" lang="en-US" sz="4000" spc="-1" strike="noStrike">
                <a:solidFill>
                  <a:srgbClr val="000000"/>
                </a:solidFill>
                <a:latin typeface="Arial"/>
                <a:ea typeface="Arial"/>
              </a:rPr>
              <a:t>BPMH Tri-Fold Pocket Cards</a:t>
            </a:r>
            <a:endParaRPr b="0" lang="en-US" sz="4000" spc="-1" strike="noStrike">
              <a:solidFill>
                <a:srgbClr val="000000"/>
              </a:solidFill>
              <a:latin typeface="Calibri"/>
            </a:endParaRPr>
          </a:p>
        </p:txBody>
      </p:sp>
      <p:sp>
        <p:nvSpPr>
          <p:cNvPr id="378" name=""/>
          <p:cNvSpPr txBox="1"/>
          <p:nvPr/>
        </p:nvSpPr>
        <p:spPr>
          <a:xfrm>
            <a:off x="304920" y="914400"/>
            <a:ext cx="8610480" cy="2077920"/>
          </a:xfrm>
          <a:prstGeom prst="rect">
            <a:avLst/>
          </a:prstGeom>
          <a:noFill/>
          <a:ln w="0">
            <a:noFill/>
          </a:ln>
        </p:spPr>
        <p:txBody>
          <a:bodyPr anchor="t">
            <a:normAutofit/>
          </a:bodyPr>
          <a:p>
            <a:pPr lvl="3" marL="1200240" indent="-343080">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3" marL="1200240" indent="-34308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379" name="Picture 2" descr=""/>
          <p:cNvPicPr/>
          <p:nvPr/>
        </p:nvPicPr>
        <p:blipFill>
          <a:blip r:embed="rId1"/>
          <a:stretch/>
        </p:blipFill>
        <p:spPr>
          <a:xfrm>
            <a:off x="0" y="1104840"/>
            <a:ext cx="6400800" cy="3936960"/>
          </a:xfrm>
          <a:prstGeom prst="rect">
            <a:avLst/>
          </a:prstGeom>
          <a:ln w="0">
            <a:noFill/>
          </a:ln>
        </p:spPr>
      </p:pic>
      <p:pic>
        <p:nvPicPr>
          <p:cNvPr id="380" name="Picture 3" descr=""/>
          <p:cNvPicPr/>
          <p:nvPr/>
        </p:nvPicPr>
        <p:blipFill>
          <a:blip r:embed="rId2"/>
          <a:stretch/>
        </p:blipFill>
        <p:spPr>
          <a:xfrm>
            <a:off x="2548080" y="2801880"/>
            <a:ext cx="6595920" cy="40561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79"/>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ke Home Points</a:t>
            </a:r>
            <a:endParaRPr b="0" lang="en-US" sz="4400" spc="-1" strike="noStrike">
              <a:solidFill>
                <a:srgbClr val="000000"/>
              </a:solidFill>
              <a:latin typeface="Calibri"/>
            </a:endParaRPr>
          </a:p>
        </p:txBody>
      </p:sp>
      <p:sp>
        <p:nvSpPr>
          <p:cNvPr id="382" name=""/>
          <p:cNvSpPr txBox="1"/>
          <p:nvPr/>
        </p:nvSpPr>
        <p:spPr>
          <a:xfrm>
            <a:off x="457200" y="121932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urate medication history is important for patient safety</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 easy! Can take time</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 to medication list when possible, but review and verify it with patient</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open-ended questions and prompts to elicit a complete history</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t additional help when necessary</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cument if more work will be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knowledgments</a:t>
            </a:r>
            <a:endParaRPr b="0" lang="en-US" sz="4400" spc="-1" strike="noStrike">
              <a:solidFill>
                <a:srgbClr val="000000"/>
              </a:solidFill>
              <a:latin typeface="Calibri"/>
            </a:endParaRPr>
          </a:p>
        </p:txBody>
      </p:sp>
      <p:sp>
        <p:nvSpPr>
          <p:cNvPr id="384" name=""/>
          <p:cNvSpPr txBox="1"/>
          <p:nvPr/>
        </p:nvSpPr>
        <p:spPr>
          <a:xfrm>
            <a:off x="228600" y="1417680"/>
            <a:ext cx="464832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 thank:</a:t>
            </a:r>
            <a:endParaRPr b="0" lang="en-US" sz="28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deola Davis</a:t>
            </a:r>
            <a:endParaRPr b="0" lang="en-US" sz="22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David Gregory, Pharm.D.</a:t>
            </a:r>
            <a:endParaRPr b="0" lang="en-US" sz="22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Buz Harrison</a:t>
            </a:r>
            <a:endParaRPr b="0" lang="en-US" sz="22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Peter Kaboli, M.D.</a:t>
            </a:r>
            <a:endParaRPr b="0" lang="en-US" sz="22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Sunil Kripalani, M.D., M.Sc.</a:t>
            </a:r>
            <a:endParaRPr b="0" lang="en-US" sz="22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inny McLean</a:t>
            </a:r>
            <a:endParaRPr b="0" lang="en-US" sz="22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JoAnne Resnic, M.B.A., B.S.N., R.N.</a:t>
            </a:r>
            <a:endParaRPr b="0" lang="en-US" sz="22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Jeffrey Schnipper, M.D., M.P.H.</a:t>
            </a:r>
            <a:endParaRPr b="0" lang="en-US" sz="22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llison Smith, M.D.</a:t>
            </a:r>
            <a:endParaRPr b="0" lang="en-US" sz="22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Jason Stein, M.D.</a:t>
            </a:r>
            <a:endParaRPr b="0" lang="en-US" sz="22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ane Stiles</a:t>
            </a:r>
            <a:endParaRPr b="0" lang="en-US" sz="2200" spc="-1" strike="noStrike">
              <a:solidFill>
                <a:srgbClr val="000000"/>
              </a:solidFill>
              <a:latin typeface="Calibri"/>
            </a:endParaRPr>
          </a:p>
          <a:p>
            <a:pPr lvl="1" marL="698400" indent="-2685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osha Wetterneck, M.D., M.S.</a:t>
            </a:r>
            <a:endParaRPr b="0" lang="en-US" sz="2200" spc="-1" strike="noStrike">
              <a:solidFill>
                <a:srgbClr val="000000"/>
              </a:solidFill>
              <a:latin typeface="Calibri"/>
            </a:endParaRPr>
          </a:p>
        </p:txBody>
      </p:sp>
      <p:sp>
        <p:nvSpPr>
          <p:cNvPr id="385" name=""/>
          <p:cNvSpPr txBox="1"/>
          <p:nvPr/>
        </p:nvSpPr>
        <p:spPr>
          <a:xfrm>
            <a:off x="4647960" y="1417680"/>
            <a:ext cx="42670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nded by:</a:t>
            </a:r>
            <a:endParaRPr b="0" lang="en-US" sz="2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anderbilt Department of Pharmaceutical Servic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MARQUIS study, AHRQ grant R18HS019598 to the Society of Hospital Medicine, </a:t>
            </a:r>
            <a:r>
              <a:rPr b="0" lang="en-US" sz="2200" spc="-1" strike="noStrike" u="sng">
                <a:solidFill>
                  <a:srgbClr val="0000ff"/>
                </a:solidFill>
                <a:uFillTx/>
                <a:latin typeface="Calibri"/>
                <a:hlinkClick r:id="rId1"/>
              </a:rPr>
              <a:t>www.hospitalmedicine.or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anderbilt Center for Experiential Learning and Assessment (CELA)</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andoff Sim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228600" y="838080"/>
            <a:ext cx="8610480" cy="603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uring admission history and physical exam, patient provided </a:t>
            </a:r>
            <a:r>
              <a:rPr b="0" lang="en-US" sz="2600" spc="-1" strike="noStrike">
                <a:solidFill>
                  <a:srgbClr val="ff0000"/>
                </a:solidFill>
                <a:latin typeface="Calibri"/>
              </a:rPr>
              <a:t>handwritten</a:t>
            </a:r>
            <a:r>
              <a:rPr b="0" lang="en-US" sz="2600" spc="-1" strike="noStrike">
                <a:solidFill>
                  <a:srgbClr val="000000"/>
                </a:solidFill>
                <a:latin typeface="Calibri"/>
              </a:rPr>
              <a:t> list of home medications which included “</a:t>
            </a:r>
            <a:r>
              <a:rPr b="0" lang="en-US" sz="2600" spc="-1" strike="noStrike">
                <a:solidFill>
                  <a:srgbClr val="ff0000"/>
                </a:solidFill>
                <a:latin typeface="Calibri"/>
              </a:rPr>
              <a:t>levothyroxine 25 mg</a:t>
            </a:r>
            <a:r>
              <a:rPr b="0" lang="en-US" sz="2600" spc="-1" strike="noStrike">
                <a:solidFill>
                  <a:srgbClr val="000000"/>
                </a:solidFill>
                <a:latin typeface="Calibri"/>
              </a:rPr>
              <a:t>” to the admitting intern</a:t>
            </a:r>
            <a:endParaRPr b="0" lang="en-US" sz="26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ue to busy admitting day, team resident used list to fill out Pre-Admission Medication List (PAML)</a:t>
            </a:r>
            <a:endParaRPr b="0" lang="en-US" sz="26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uring PAML creation, resident noted levothyroxine units and converted dose to </a:t>
            </a:r>
            <a:r>
              <a:rPr b="0" lang="en-US" sz="2600" spc="-1" strike="noStrike">
                <a:solidFill>
                  <a:srgbClr val="ff0000"/>
                </a:solidFill>
                <a:latin typeface="Calibri"/>
              </a:rPr>
              <a:t>250 mcg daily</a:t>
            </a:r>
            <a:r>
              <a:rPr b="0" lang="en-US" sz="2600" spc="-1" strike="noStrike">
                <a:solidFill>
                  <a:srgbClr val="000000"/>
                </a:solidFill>
                <a:latin typeface="Calibri"/>
              </a:rPr>
              <a:t>. Correct conversion would be </a:t>
            </a:r>
            <a:r>
              <a:rPr b="0" lang="en-US" sz="2600" spc="-1" strike="noStrike">
                <a:solidFill>
                  <a:srgbClr val="ff0000"/>
                </a:solidFill>
                <a:latin typeface="Calibri"/>
              </a:rPr>
              <a:t>25,000 mcg daily</a:t>
            </a:r>
            <a:r>
              <a:rPr b="0" lang="en-US" sz="2600" spc="-1" strike="noStrike">
                <a:solidFill>
                  <a:srgbClr val="000000"/>
                </a:solidFill>
                <a:latin typeface="Calibri"/>
              </a:rPr>
              <a:t>. </a:t>
            </a:r>
            <a:endParaRPr b="0" lang="en-US" sz="26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ecause patient was new to Partners there were no medications from electronic sources to help generate PAML</a:t>
            </a:r>
            <a:endParaRPr b="0" lang="en-US" sz="26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grpSp>
        <p:nvGrpSpPr>
          <p:cNvPr id="225" name="Group 5"/>
          <p:cNvGrpSpPr/>
          <p:nvPr/>
        </p:nvGrpSpPr>
        <p:grpSpPr>
          <a:xfrm>
            <a:off x="0" y="-76320"/>
            <a:ext cx="9144000" cy="914400"/>
            <a:chOff x="0" y="-76320"/>
            <a:chExt cx="9144000" cy="914400"/>
          </a:xfrm>
        </p:grpSpPr>
        <p:sp>
          <p:nvSpPr>
            <p:cNvPr id="226" name="Rectangle 3"/>
            <p:cNvSpPr/>
            <p:nvPr/>
          </p:nvSpPr>
          <p:spPr>
            <a:xfrm>
              <a:off x="0" y="-76320"/>
              <a:ext cx="9144000" cy="914400"/>
            </a:xfrm>
            <a:prstGeom prst="rect">
              <a:avLst/>
            </a:prstGeom>
            <a:solidFill>
              <a:srgbClr val="4f81bd"/>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Rectangle 4"/>
            <p:cNvSpPr/>
            <p:nvPr/>
          </p:nvSpPr>
          <p:spPr>
            <a:xfrm>
              <a:off x="2160" y="720"/>
              <a:ext cx="91414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ase 1 – Medication History-Tak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1f497d"/>
                </a:solidFill>
                <a:latin typeface="Franklin Gothic Medium"/>
              </a:rPr>
              <a:t>Handoff Simulations</a:t>
            </a:r>
            <a:endParaRPr b="0" lang="en-US" sz="4000" spc="-1" strike="noStrike">
              <a:solidFill>
                <a:srgbClr val="000000"/>
              </a:solidFill>
              <a:latin typeface="Calibri"/>
            </a:endParaRPr>
          </a:p>
        </p:txBody>
      </p:sp>
      <p:sp>
        <p:nvSpPr>
          <p:cNvPr id="388" name=""/>
          <p:cNvSpPr txBox="1"/>
          <p:nvPr/>
        </p:nvSpPr>
        <p:spPr>
          <a:xfrm>
            <a:off x="457200" y="1600200"/>
            <a:ext cx="8229600" cy="4648320"/>
          </a:xfrm>
          <a:prstGeom prst="rect">
            <a:avLst/>
          </a:prstGeom>
          <a:noFill/>
          <a:ln w="0">
            <a:noFill/>
          </a:ln>
        </p:spPr>
        <p:txBody>
          <a:bodyPr anchor="t">
            <a:normAutofit fontScale="91000"/>
          </a:bodyPr>
          <a:p>
            <a:pPr marL="312120" indent="-312120">
              <a:lnSpc>
                <a:spcPct val="90000"/>
              </a:lnSpc>
              <a:spcBef>
                <a:spcPts val="1800"/>
              </a:spcBef>
              <a:buClr>
                <a:srgbClr val="f79646"/>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Franklin Gothic Book"/>
              </a:rPr>
              <a:t>Split into groups of </a:t>
            </a:r>
            <a:r>
              <a:rPr b="1" i="1" lang="en-US" sz="3200" spc="-1" strike="noStrike">
                <a:solidFill>
                  <a:srgbClr val="000000"/>
                </a:solidFill>
                <a:latin typeface="Franklin Gothic Book"/>
              </a:rPr>
              <a:t>three</a:t>
            </a:r>
            <a:r>
              <a:rPr b="1" lang="en-US" sz="3200" spc="-1" strike="noStrike">
                <a:solidFill>
                  <a:srgbClr val="000000"/>
                </a:solidFill>
                <a:latin typeface="Franklin Gothic Book"/>
              </a:rPr>
              <a:t>.</a:t>
            </a:r>
            <a:endParaRPr b="0" lang="en-US" sz="3200" spc="-1" strike="noStrike">
              <a:solidFill>
                <a:srgbClr val="000000"/>
              </a:solidFill>
              <a:latin typeface="Calibri"/>
            </a:endParaRPr>
          </a:p>
          <a:p>
            <a:pPr marL="312120" indent="-312120">
              <a:lnSpc>
                <a:spcPct val="90000"/>
              </a:lnSpc>
              <a:spcBef>
                <a:spcPts val="1800"/>
              </a:spcBef>
              <a:buClr>
                <a:srgbClr val="f79646"/>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Franklin Gothic Book"/>
              </a:rPr>
              <a:t>Play the role – </a:t>
            </a:r>
            <a:r>
              <a:rPr b="1" lang="en-US" sz="3200" spc="-1" strike="noStrike">
                <a:solidFill>
                  <a:srgbClr val="008000"/>
                </a:solidFill>
                <a:latin typeface="Franklin Gothic Medium"/>
              </a:rPr>
              <a:t>patient, </a:t>
            </a:r>
            <a:r>
              <a:rPr b="1" lang="en-US" sz="3200" spc="-1" strike="noStrike">
                <a:solidFill>
                  <a:srgbClr val="0070c0"/>
                </a:solidFill>
                <a:latin typeface="Franklin Gothic Medium"/>
              </a:rPr>
              <a:t>clinician, </a:t>
            </a:r>
            <a:r>
              <a:rPr b="1" lang="en-US" sz="3200" spc="-1" strike="noStrike">
                <a:solidFill>
                  <a:srgbClr val="f79646"/>
                </a:solidFill>
                <a:latin typeface="Franklin Gothic Medium"/>
              </a:rPr>
              <a:t>observer</a:t>
            </a:r>
            <a:r>
              <a:rPr b="1" lang="en-US" sz="3200" spc="-1" strike="noStrike">
                <a:solidFill>
                  <a:srgbClr val="000000"/>
                </a:solidFill>
                <a:latin typeface="Franklin Gothic Medium"/>
              </a:rPr>
              <a:t> </a:t>
            </a:r>
            <a:r>
              <a:rPr b="1" lang="en-US" sz="3200" spc="-1" strike="noStrike">
                <a:solidFill>
                  <a:srgbClr val="000000"/>
                </a:solidFill>
                <a:latin typeface="Franklin Gothic Book"/>
              </a:rPr>
              <a:t>– listed on the packet you receive.</a:t>
            </a:r>
            <a:endParaRPr b="0" lang="en-US" sz="3200" spc="-1" strike="noStrike">
              <a:solidFill>
                <a:srgbClr val="000000"/>
              </a:solidFill>
              <a:latin typeface="Calibri"/>
            </a:endParaRPr>
          </a:p>
          <a:p>
            <a:pPr lvl="1" marL="676080" indent="-259920">
              <a:lnSpc>
                <a:spcPct val="90000"/>
              </a:lnSpc>
              <a:spcBef>
                <a:spcPts val="18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2800" spc="-1" strike="noStrike">
                <a:solidFill>
                  <a:srgbClr val="000000"/>
                </a:solidFill>
                <a:latin typeface="Franklin Gothic Book"/>
              </a:rPr>
              <a:t>Each packet has specific instructions + supporting materials as needed</a:t>
            </a:r>
            <a:endParaRPr b="0" lang="en-US" sz="2800" spc="-1" strike="noStrike">
              <a:solidFill>
                <a:srgbClr val="000000"/>
              </a:solidFill>
              <a:latin typeface="Calibri"/>
            </a:endParaRPr>
          </a:p>
          <a:p>
            <a:pPr marL="312120" indent="-312120">
              <a:lnSpc>
                <a:spcPct val="90000"/>
              </a:lnSpc>
              <a:spcBef>
                <a:spcPts val="1800"/>
              </a:spcBef>
              <a:buClr>
                <a:srgbClr val="f79646"/>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Franklin Gothic Book"/>
              </a:rPr>
              <a:t>You will have </a:t>
            </a:r>
            <a:r>
              <a:rPr b="1" i="1" lang="en-US" sz="3200" spc="-1" strike="noStrike" u="sng">
                <a:solidFill>
                  <a:srgbClr val="000000"/>
                </a:solidFill>
                <a:uFillTx/>
                <a:latin typeface="Franklin Gothic Book"/>
              </a:rPr>
              <a:t>15 min </a:t>
            </a:r>
            <a:r>
              <a:rPr b="1" lang="en-US" sz="3200" spc="-1" strike="noStrike">
                <a:solidFill>
                  <a:srgbClr val="000000"/>
                </a:solidFill>
                <a:latin typeface="Franklin Gothic Book"/>
              </a:rPr>
              <a:t>for the role-play, followed by </a:t>
            </a:r>
            <a:r>
              <a:rPr b="1" i="1" lang="en-US" sz="3200" spc="-1" strike="noStrike" u="sng">
                <a:solidFill>
                  <a:srgbClr val="000000"/>
                </a:solidFill>
                <a:uFillTx/>
                <a:latin typeface="Franklin Gothic Book"/>
              </a:rPr>
              <a:t>5 min </a:t>
            </a:r>
            <a:r>
              <a:rPr b="1" lang="en-US" sz="3200" spc="-1" strike="noStrike">
                <a:solidFill>
                  <a:srgbClr val="000000"/>
                </a:solidFill>
                <a:latin typeface="Franklin Gothic Book"/>
              </a:rPr>
              <a:t>of debrief in your group.</a:t>
            </a:r>
            <a:endParaRPr b="0" lang="en-US" sz="3200" spc="-1" strike="noStrike">
              <a:solidFill>
                <a:srgbClr val="000000"/>
              </a:solidFill>
              <a:latin typeface="Calibri"/>
            </a:endParaRPr>
          </a:p>
          <a:p>
            <a:pPr lvl="1" marL="676080" indent="-259920">
              <a:lnSpc>
                <a:spcPct val="90000"/>
              </a:lnSpc>
              <a:spcBef>
                <a:spcPts val="1800"/>
              </a:spcBef>
              <a:buClr>
                <a:srgbClr val="f7964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Franklin Gothic Book"/>
              </a:rPr>
              <a:t>Clinician, then patient, then observer</a:t>
            </a:r>
            <a:endParaRPr b="0" lang="en-US" sz="2800" spc="-1" strike="noStrike">
              <a:solidFill>
                <a:srgbClr val="000000"/>
              </a:solidFill>
              <a:latin typeface="Calibri"/>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1f497d"/>
                </a:solidFill>
                <a:latin typeface="Franklin Gothic Medium"/>
              </a:rPr>
              <a:t>Handoff Simulations</a:t>
            </a:r>
            <a:endParaRPr b="0" lang="en-US" sz="4000" spc="-1" strike="noStrike">
              <a:solidFill>
                <a:srgbClr val="000000"/>
              </a:solidFill>
              <a:latin typeface="Calibri"/>
            </a:endParaRPr>
          </a:p>
        </p:txBody>
      </p:sp>
      <p:sp>
        <p:nvSpPr>
          <p:cNvPr id="390" name=""/>
          <p:cNvSpPr txBox="1"/>
          <p:nvPr/>
        </p:nvSpPr>
        <p:spPr>
          <a:xfrm>
            <a:off x="457200" y="1600200"/>
            <a:ext cx="8229600" cy="4648320"/>
          </a:xfrm>
          <a:prstGeom prst="rect">
            <a:avLst/>
          </a:prstGeom>
          <a:noFill/>
          <a:ln w="0">
            <a:noFill/>
          </a:ln>
        </p:spPr>
        <p:txBody>
          <a:bodyPr anchor="t">
            <a:normAutofit/>
          </a:bodyPr>
          <a:p>
            <a:pPr marL="343080" indent="-343080">
              <a:lnSpc>
                <a:spcPct val="100000"/>
              </a:lnSpc>
              <a:spcBef>
                <a:spcPts val="1800"/>
              </a:spcBef>
              <a:buClr>
                <a:srgbClr val="f79646"/>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Franklin Gothic Book"/>
              </a:rPr>
              <a:t>To save time, you can skip the following:</a:t>
            </a:r>
            <a:endParaRPr b="0" lang="en-US" sz="3200" spc="-1" strike="noStrike">
              <a:solidFill>
                <a:srgbClr val="000000"/>
              </a:solidFill>
              <a:latin typeface="Calibri"/>
            </a:endParaRPr>
          </a:p>
          <a:p>
            <a:pPr lvl="1" marL="743040" indent="-285840">
              <a:lnSpc>
                <a:spcPct val="100000"/>
              </a:lnSpc>
              <a:spcBef>
                <a:spcPts val="1800"/>
              </a:spcBef>
              <a:buClr>
                <a:srgbClr val="f7964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Franklin Gothic Book"/>
              </a:rPr>
              <a:t>Introduction to patient/caregiver</a:t>
            </a:r>
            <a:endParaRPr b="0" lang="en-US" sz="2800" spc="-1" strike="noStrike">
              <a:solidFill>
                <a:srgbClr val="000000"/>
              </a:solidFill>
              <a:latin typeface="Calibri"/>
            </a:endParaRPr>
          </a:p>
          <a:p>
            <a:pPr lvl="1" marL="743040" indent="-285840">
              <a:lnSpc>
                <a:spcPct val="100000"/>
              </a:lnSpc>
              <a:spcBef>
                <a:spcPts val="1800"/>
              </a:spcBef>
              <a:buClr>
                <a:srgbClr val="f7964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Franklin Gothic Book"/>
              </a:rPr>
              <a:t>Confirm patient identifiers</a:t>
            </a:r>
            <a:endParaRPr b="0" lang="en-US" sz="2800" spc="-1" strike="noStrike">
              <a:solidFill>
                <a:srgbClr val="000000"/>
              </a:solidFill>
              <a:latin typeface="Calibri"/>
            </a:endParaRPr>
          </a:p>
          <a:p>
            <a:pPr lvl="1" marL="743040" indent="-285840">
              <a:lnSpc>
                <a:spcPct val="100000"/>
              </a:lnSpc>
              <a:spcBef>
                <a:spcPts val="1800"/>
              </a:spcBef>
              <a:buClr>
                <a:srgbClr val="f7964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Franklin Gothic Book"/>
              </a:rPr>
              <a:t>Screen for allergies and reactions</a:t>
            </a:r>
            <a:endParaRPr b="0" lang="en-US" sz="2800" spc="-1" strike="noStrike">
              <a:solidFill>
                <a:srgbClr val="000000"/>
              </a:solidFill>
              <a:latin typeface="Calibri"/>
            </a:endParaRPr>
          </a:p>
          <a:p>
            <a:pPr lvl="1" marL="743040" indent="-285840">
              <a:lnSpc>
                <a:spcPct val="100000"/>
              </a:lnSpc>
              <a:spcBef>
                <a:spcPts val="1800"/>
              </a:spcBef>
              <a:buClr>
                <a:srgbClr val="f7964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brief Within Your Groups</a:t>
            </a:r>
            <a:endParaRPr b="0" lang="en-US" sz="4400" spc="-1" strike="noStrike">
              <a:solidFill>
                <a:srgbClr val="000000"/>
              </a:solidFill>
              <a:latin typeface="Calibri"/>
            </a:endParaRPr>
          </a:p>
        </p:txBody>
      </p:sp>
      <p:sp>
        <p:nvSpPr>
          <p:cNvPr id="392" name=""/>
          <p:cNvSpPr txBox="1"/>
          <p:nvPr/>
        </p:nvSpPr>
        <p:spPr>
          <a:xfrm>
            <a:off x="457200" y="1417320"/>
            <a:ext cx="8229600" cy="47084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nician</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id it feel to conduct the interview?  </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was easy? What was hard?</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ient</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id it feel to be interviewed?</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id the clinician react to your role-playing?</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server</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did the clinician do well? What needed improvement?  How accurate was the li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t-Test</a:t>
            </a:r>
            <a:endParaRPr b="0" lang="en-US" sz="3200" spc="-1" strike="noStrike">
              <a:solidFill>
                <a:srgbClr val="000000"/>
              </a:solidFill>
              <a:latin typeface="Calibri"/>
            </a:endParaRPr>
          </a:p>
        </p:txBody>
      </p:sp>
      <p:sp>
        <p:nvSpPr>
          <p:cNvPr id="3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If you already have a home medication list on a patient being admitted to the hospital, you shoul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Assume it’s correct if less than a month o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Read the medications and ask the patient to verify them one at a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Have the patient tell you what medications they are taking firs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None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3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If you already have a home medication list on a patient being admitted to the hospital, you shoul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Assume it’s correct if less than a month o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Read the medications and ask the patient to verify them one at a tim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C. Have the patient tell you what medications they are taking firs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None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Medications that patients might otherwise forget to tell you unless prompted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Non-oral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Non-prescription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Weekly or monthly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PRN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A and 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Medications that patients might otherwise forget to tell you unless prompted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Non-oral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Non-prescription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Weekly or monthly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PRN med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A and C </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F.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There is no easy way to figure out what a medication is just by the pill’s appeara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Tru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Fal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There is no easy way to figure out what a medication is just by the pill’s appearan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Tru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B. Fal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1"/>
          <p:cNvSpPr/>
          <p:nvPr/>
        </p:nvSpPr>
        <p:spPr>
          <a:xfrm>
            <a:off x="228600" y="990720"/>
            <a:ext cx="8915400" cy="466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rn, fellow, and attending admission notes all report home levothyroxine dose as 250 mcg </a:t>
            </a:r>
            <a:endParaRPr b="0" lang="en-US" sz="25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n HD#2, PAML is reviewed by pharmacist who reconciles admissions orders with PAML – this does not include independent verification of preadmission medications</a:t>
            </a:r>
            <a:endParaRPr b="0" lang="en-US" sz="25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n HD#3, transplant pharmacist reviews preadmission medications with patient, who verbally confirms erroneous dose</a:t>
            </a:r>
            <a:endParaRPr b="0" lang="en-US" sz="25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Patient continues to receive 250 mcg of levothyroxine daily for the next 20 days</a:t>
            </a:r>
            <a:endParaRPr b="0" lang="en-US" sz="2500" spc="-1" strike="noStrike">
              <a:solidFill>
                <a:srgbClr val="000000"/>
              </a:solidFill>
              <a:latin typeface="Arial"/>
            </a:endParaRPr>
          </a:p>
        </p:txBody>
      </p:sp>
      <p:grpSp>
        <p:nvGrpSpPr>
          <p:cNvPr id="229" name="Group 5"/>
          <p:cNvGrpSpPr/>
          <p:nvPr/>
        </p:nvGrpSpPr>
        <p:grpSpPr>
          <a:xfrm>
            <a:off x="0" y="-76320"/>
            <a:ext cx="9144000" cy="914400"/>
            <a:chOff x="0" y="-76320"/>
            <a:chExt cx="9144000" cy="914400"/>
          </a:xfrm>
        </p:grpSpPr>
        <p:sp>
          <p:nvSpPr>
            <p:cNvPr id="230" name="Rectangle 3"/>
            <p:cNvSpPr/>
            <p:nvPr/>
          </p:nvSpPr>
          <p:spPr>
            <a:xfrm>
              <a:off x="0" y="-76320"/>
              <a:ext cx="9144000" cy="914400"/>
            </a:xfrm>
            <a:prstGeom prst="rect">
              <a:avLst/>
            </a:prstGeom>
            <a:solidFill>
              <a:srgbClr val="4f81bd"/>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Rectangle 4"/>
            <p:cNvSpPr/>
            <p:nvPr/>
          </p:nvSpPr>
          <p:spPr>
            <a:xfrm>
              <a:off x="2160" y="720"/>
              <a:ext cx="91414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ase 1 – Hospital Cours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What is the minimum number of medication sources you need to feel confident in the accuracy of a home medication lis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Tw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hre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Fo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What is the minimum number of medication sources you need to feel confident in the accuracy of a home medication lis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On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B. Tw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hre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Fo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1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Which of the following would not be considered an “objective” source of medication information?</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An ambulatory EMR list</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The patient's own medication list</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he patient's spouse's memor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The patient's medication bottle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None of the above are "objectiv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1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 Which of the following would not be considered an “objective” source of medication information?</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An ambulatory EMR list</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The patient's own medication list</a:t>
            </a:r>
            <a:endParaRPr b="0" lang="en-US" sz="28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C. The patient's spouse's memor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The patient's medication bottle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None of the above are "objectiv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1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 Your patient has a medication list and you have one as well (from the outpatient EMR). The two sources agree and the patient seems knowledgeable about his medications. A reasonable next step is to:</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Be done taking the medication history</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Gather a third source just to make sur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alk to the patient’s PCP</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None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1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 Your patient has a medication list and you have one as well (from the outpatient EMR). The two sources agree and the patient seems knowledgeable about his medications. A reasonable next step is to:</a:t>
            </a:r>
            <a:endParaRPr b="0" lang="en-US" sz="3200" spc="-1" strike="noStrike">
              <a:solidFill>
                <a:srgbClr val="000000"/>
              </a:solidFill>
              <a:latin typeface="Calibri"/>
            </a:endParaRPr>
          </a:p>
          <a:p>
            <a:pPr lvl="1" marL="727920" indent="-28008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A. Be done taking the medication history</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Gather a third source just to make sur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alk to the patient’s PCP</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None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7. When taking a BPMH, the history taker should ask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edication adher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Medication side-effe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he last time medications were ta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All pharmacies where prescriptions are fil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A and 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7. When taking a BPMH, the history taker should ask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edication adher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Medication side-effe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The last time medications were tak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All pharmacies where prescriptions are fill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A and D </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F.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2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8. If a patient cannot provide a medication list, cannot recall medications from memory, and cannot resolve discrepancies between lists, the following sources should be utilized:</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CP’s offic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Community pharmacy</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Family members or other caregiver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Recent discharge summary</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st-Test</a:t>
            </a:r>
            <a:endParaRPr b="0" lang="en-US" sz="44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8. If a patient cannot provide a medication list, cannot recall medications from memory, and cannot resolve discrepancies between lists, the following sources should be utilized:</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CP’s offic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 Community pharmacy</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 Family members or other caregiver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 Recent discharge summary</a:t>
            </a:r>
            <a:endParaRPr b="0" lang="en-US" sz="2800" spc="-1" strike="noStrike">
              <a:solidFill>
                <a:srgbClr val="000000"/>
              </a:solidFill>
              <a:latin typeface="Calibri"/>
            </a:endParaRPr>
          </a:p>
          <a:p>
            <a:pPr lvl="1" marL="727920" indent="-28008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E. All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4"/>
          <p:cNvSpPr/>
          <p:nvPr/>
        </p:nvSpPr>
        <p:spPr>
          <a:xfrm>
            <a:off x="228600" y="762120"/>
            <a:ext cx="8915400" cy="580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ea typeface="Times New Roman"/>
              </a:rPr>
              <a:t>Patient listed for heart transplant</a:t>
            </a: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ea typeface="Times New Roman"/>
              </a:rPr>
              <a:t>PA catheter placed for directed therapy with inotropic agents and diuretics</a:t>
            </a:r>
            <a:endParaRPr b="0" lang="en-US" sz="2500" spc="-1" strike="noStrike">
              <a:solidFill>
                <a:srgbClr val="000000"/>
              </a:solidFill>
              <a:latin typeface="Arial"/>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ea typeface="Times New Roman"/>
              </a:rPr>
              <a:t>HD#18 patient develops fevers and hypotension. Patient is started on antibiotics given concern for mixed septic and cardiogenic shock </a:t>
            </a: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ea typeface="Times New Roman"/>
              </a:rPr>
              <a:t>HD#20 patient is transferred to CCU given refractory hypotension</a:t>
            </a: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ea typeface="Times New Roman"/>
              </a:rPr>
              <a:t>Taken to cath lab urgently for placement of intra-aortic balloon pump </a:t>
            </a:r>
            <a:endParaRPr b="0" lang="en-US" sz="2500" spc="-1" strike="noStrike">
              <a:solidFill>
                <a:srgbClr val="000000"/>
              </a:solidFill>
              <a:latin typeface="Arial"/>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p:txBody>
      </p:sp>
      <p:grpSp>
        <p:nvGrpSpPr>
          <p:cNvPr id="233" name="Group 5"/>
          <p:cNvGrpSpPr/>
          <p:nvPr/>
        </p:nvGrpSpPr>
        <p:grpSpPr>
          <a:xfrm>
            <a:off x="0" y="-76320"/>
            <a:ext cx="9144000" cy="914400"/>
            <a:chOff x="0" y="-76320"/>
            <a:chExt cx="9144000" cy="914400"/>
          </a:xfrm>
        </p:grpSpPr>
        <p:sp>
          <p:nvSpPr>
            <p:cNvPr id="234" name="Rectangle 3"/>
            <p:cNvSpPr/>
            <p:nvPr/>
          </p:nvSpPr>
          <p:spPr>
            <a:xfrm>
              <a:off x="0" y="-76320"/>
              <a:ext cx="9144000" cy="914400"/>
            </a:xfrm>
            <a:prstGeom prst="rect">
              <a:avLst/>
            </a:prstGeom>
            <a:solidFill>
              <a:srgbClr val="4f81bd"/>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Rectangle 4"/>
            <p:cNvSpPr/>
            <p:nvPr/>
          </p:nvSpPr>
          <p:spPr>
            <a:xfrm>
              <a:off x="2160" y="720"/>
              <a:ext cx="914148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ase 1 – Hospital Cours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Play</a:t>
            </a:r>
            <a:endParaRPr b="0" lang="en-US" sz="4400" spc="-1" strike="noStrike">
              <a:solidFill>
                <a:srgbClr val="000000"/>
              </a:solidFill>
              <a:latin typeface="Calibri"/>
            </a:endParaRPr>
          </a:p>
        </p:txBody>
      </p:sp>
      <p:sp>
        <p:nvSpPr>
          <p:cNvPr id="4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ll play the role of the pati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ane Doe, a 57-year-old female who presents from rehab with abdominal pain and distension concerning for Ogil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PI: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cent patellar fractur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istory of gastroparesi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ow with several days of abdominal pain, disten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KUB shows marked colonic dil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Play</a:t>
            </a:r>
            <a:endParaRPr b="0" lang="en-US" sz="4400" spc="-1" strike="noStrike">
              <a:solidFill>
                <a:srgbClr val="000000"/>
              </a:solidFill>
              <a:latin typeface="Calibri"/>
            </a:endParaRPr>
          </a:p>
        </p:txBody>
      </p:sp>
      <p:sp>
        <p:nvSpPr>
          <p:cNvPr id="43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MHx</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ypothyroidis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VT/PE 6 months ago</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astroparesi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epress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atellar fractur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Play</a:t>
            </a:r>
            <a:endParaRPr b="0" lang="en-US" sz="4400" spc="-1" strike="noStrike">
              <a:solidFill>
                <a:srgbClr val="000000"/>
              </a:solidFill>
              <a:latin typeface="Calibri"/>
            </a:endParaRPr>
          </a:p>
        </p:txBody>
      </p:sp>
      <p:sp>
        <p:nvSpPr>
          <p:cNvPr id="43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view the patient regarding her medications using the techniques we just discuss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Think aloud” as you go through the proc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Access” sources of medication data before or after seeing the patient as you normally would. You can ask for additional sources of data, then I will provide those sources if ask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the end, you should compile and record the best possible medication lis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Play</a:t>
            </a:r>
            <a:endParaRPr b="0" lang="en-US" sz="4400" spc="-1" strike="noStrike">
              <a:solidFill>
                <a:srgbClr val="000000"/>
              </a:solidFill>
              <a:latin typeface="Calibri"/>
            </a:endParaRPr>
          </a:p>
        </p:txBody>
      </p:sp>
      <p:sp>
        <p:nvSpPr>
          <p:cNvPr id="434" name=""/>
          <p:cNvSpPr txBox="1"/>
          <p:nvPr/>
        </p:nvSpPr>
        <p:spPr>
          <a:xfrm>
            <a:off x="457200" y="990360"/>
            <a:ext cx="8229600" cy="513540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Outpatient EMR Medications – 2 months ago unless otherwise noted</a:t>
            </a:r>
            <a:endParaRPr b="0" lang="en-US" sz="20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dvair 500/50 INH BI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nadryl 25 mg PO TID 30 min prior to meal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lcium carbonate 1250 mg (500 mg elemental Ca) 1 PO Q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lonase 2 sprays QD (each nostril)</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meprazole 20 mg PO BI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esicare 5 mg PO Q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ronabinol 2.5 mg PO QI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ivaroxaban 20 mg PO Q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vothyroxine 125 mcg PO Q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razodone 100 mg PO QH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egabalin 150 mg PO TI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luoxetine 40 mg PO QD – last ordered 3 months ag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luconazole 150 mg PO Q week while on erythromyci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rythromycin 250 mg PO TID with meal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iconazole vaginal 2% cream, 1 applicator PV QH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buterol INH 1 puff q4-6 hours prn wheezing</a:t>
            </a:r>
            <a:r>
              <a:rPr b="0" lang="en-US" sz="1600" spc="-1" strike="noStrike">
                <a:solidFill>
                  <a:srgbClr val="000000"/>
                </a:solidFill>
                <a:latin typeface="Calibri"/>
              </a:rPr>
              <a:t>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Play</a:t>
            </a:r>
            <a:endParaRPr b="0" lang="en-US" sz="4400" spc="-1" strike="noStrike">
              <a:solidFill>
                <a:srgbClr val="000000"/>
              </a:solidFill>
              <a:latin typeface="Calibri"/>
            </a:endParaRPr>
          </a:p>
        </p:txBody>
      </p:sp>
      <p:sp>
        <p:nvSpPr>
          <p:cNvPr id="436" name=""/>
          <p:cNvSpPr txBox="1"/>
          <p:nvPr/>
        </p:nvSpPr>
        <p:spPr>
          <a:xfrm>
            <a:off x="457200" y="1219320"/>
            <a:ext cx="8229600" cy="490680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Hospital Discharge Orders – 6 month ago</a:t>
            </a:r>
            <a:endParaRPr b="0" lang="en-US" sz="20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laritin 10 mg PO QD prn seasonal allergi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buterol INH 1 puff q4-6h prn wheezin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ivan 0.5 -1 mg q6h prn nause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razodone 100 mg PO QHS prn insomni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Play</a:t>
            </a:r>
            <a:endParaRPr b="0" lang="en-US" sz="4400" spc="-1" strike="noStrike">
              <a:solidFill>
                <a:srgbClr val="000000"/>
              </a:solidFill>
              <a:latin typeface="Calibri"/>
            </a:endParaRPr>
          </a:p>
        </p:txBody>
      </p:sp>
      <p:sp>
        <p:nvSpPr>
          <p:cNvPr id="438" name=""/>
          <p:cNvSpPr txBox="1"/>
          <p:nvPr/>
        </p:nvSpPr>
        <p:spPr>
          <a:xfrm>
            <a:off x="0" y="1066320"/>
            <a:ext cx="9144000" cy="5791320"/>
          </a:xfrm>
          <a:prstGeom prst="rect">
            <a:avLst/>
          </a:prstGeom>
          <a:solidFill>
            <a:srgbClr val="ffffff"/>
          </a:solid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harmacy Prescription Fill Data – filled within the last month unless noted below</a:t>
            </a:r>
            <a:endParaRPr b="0" lang="en-US" sz="20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dvair 500-50 INH BI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lonase 2 sprays in each nostril Q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ronabinol 2.5 mg PO QI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meprazole 20 mg PO BID</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esicare 5 mg PO Q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ivaroxaban 20 mg PO Q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vothyroxine 100 mcg PO QD 1 month ago, 125 mcg PO QD 4 months ag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razodone 100 mg PO QH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mitriptyline 50 mg QH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uloxetine 30 mg PO QAM – last filled one month ag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luoxetine 40 mg PO QD - #30, last filled 3 months ag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etronidazole 500 mg PO BID #14, last filled 3 months ag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iconazole vaginal 2% cream, 1 applicator PV QH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buterol INH 1 puff q4-6 hours prn wheezin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oratadine 10 mg PO QD prn seasonal allergi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xycodone 5 mg tablets, take 1-3 tabs q3h as needed, #200 – last filled 8 months ag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ydrocodone-acetaminophen 5-300, take 1 tab q6h prn #30 – last filled 10 months ag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Play</a:t>
            </a:r>
            <a:endParaRPr b="0" lang="en-US" sz="4400" spc="-1" strike="noStrike">
              <a:solidFill>
                <a:srgbClr val="000000"/>
              </a:solidFill>
              <a:latin typeface="Calibri"/>
            </a:endParaRPr>
          </a:p>
        </p:txBody>
      </p:sp>
      <p:sp>
        <p:nvSpPr>
          <p:cNvPr id="440" name=""/>
          <p:cNvSpPr txBox="1"/>
          <p:nvPr/>
        </p:nvSpPr>
        <p:spPr>
          <a:xfrm>
            <a:off x="0" y="1066320"/>
            <a:ext cx="9144000" cy="251460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versation with Psychiatrist</a:t>
            </a:r>
            <a:endParaRPr b="0" lang="en-US" sz="20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Prescribes the followin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uloxetine 30 mg PO QAM – switched to this from fluoxetine 1 month ag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razodone 100 mg PO QH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ivan 0.5 mg q8h pr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egabalin 150 mg PO TID – calls it in to drug store near psychiatrist (Skendarian Apothecar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xycodone 10 mg tabs PO Q4-6h prn – calls it in the same drug sto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Play</a:t>
            </a:r>
            <a:endParaRPr b="0" lang="en-US" sz="4400" spc="-1" strike="noStrike">
              <a:solidFill>
                <a:srgbClr val="000000"/>
              </a:solidFill>
              <a:latin typeface="Calibri"/>
            </a:endParaRPr>
          </a:p>
        </p:txBody>
      </p:sp>
      <p:sp>
        <p:nvSpPr>
          <p:cNvPr id="442" name=""/>
          <p:cNvSpPr txBox="1"/>
          <p:nvPr/>
        </p:nvSpPr>
        <p:spPr>
          <a:xfrm>
            <a:off x="0" y="1066320"/>
            <a:ext cx="9144000" cy="5791320"/>
          </a:xfrm>
          <a:prstGeom prst="rect">
            <a:avLst/>
          </a:prstGeom>
          <a:solidFill>
            <a:srgbClr val="ffffff"/>
          </a:solid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Gold Standard</a:t>
            </a:r>
            <a:endParaRPr b="0" lang="en-US" sz="16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tivan 0.5 mg q8h prn – takes it 2-3 times a da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Fluconazole 150 mg Q week while on erythromycin – stopped taking it because misplaced i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enadryl 25 mg PO TID before meals – only takes it if she doesn’t need to do anything for the rest of the day because it makes her drowsy. Takes it about 3-4 times a week. Gets OTC.</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rythromycin 250 mg TID with meals – stopped taking it because it gives her yeast infection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Vesicare (solifenacin) 5 mg PO QD</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iconazole 2% vaginal cream 1 applicator PV QHS</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alcium carbonate 1250 mg (500 mg elemental Ca) 1 PO QD (buys it OTC)</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ronabinol 2.5 mg PO QID</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rgocalciferol 50,000 capsule once a week</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uloxetine 30 mg PO QAM – switched to this from fluoxetine 1 month ago</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vair 500/50 INH BID – patient takes it 3-4 times a week</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vothyroxine 100 mcg PO QD (recently changed from 125 mcg) – does not take i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meprazole 20 mg PO BID</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egabalin 150 mg PO TID</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ivaroxaban 20 mg PO QD</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razodone 100 mg PO QH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xycodone 10 mg tabs PO Q4-6h prn –Takes 3-4 a da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lbuterol INH 1 puff q4-6 hours prn wheezing – has not needed it in last 3 month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laritin 10 mg PO QD – has not taken in in 3 month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Flonase 2 sprays each nostril QD – has not taken it in 3 months</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3" name=""/>
          <p:cNvGraphicFramePr/>
          <p:nvPr/>
        </p:nvGraphicFramePr>
        <p:xfrm>
          <a:off x="0" y="708120"/>
          <a:ext cx="9144000" cy="6335640"/>
        </p:xfrm>
        <a:graphic>
          <a:graphicData uri="http://schemas.openxmlformats.org/drawingml/2006/table">
            <a:tbl>
              <a:tblPr/>
              <a:tblGrid>
                <a:gridCol w="7696080"/>
                <a:gridCol w="1447920"/>
              </a:tblGrid>
              <a:tr h="52236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Asks the patient open-ended questions about what medications she or he is taking (i.e., doesn’t read the list and ask if it is correct)</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92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Uses probing questions to elicit additional information: non-oral meds, non-daily meds, PRN medications, non-prescription med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236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Uses other probes to elicit additional medications: common reasons for PRNs, meds for problems in the problem list, meds prescribed by specialist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172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Asks about adherence</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920">
                <a:tc>
                  <a:txBody>
                    <a:bodyPr lIns="64800" rIns="64800" tIns="0" bIns="0" anchor="t">
                      <a:noAutofit/>
                    </a:bodyPr>
                    <a:p>
                      <a:pPr>
                        <a:lnSpc>
                          <a:spcPct val="107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Uses at least two sources of medications, ideally one provided by the patient and one from another “objective” source (e.g., patient’s own list and ambulatory EMR med list)</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2640">
                <a:tc>
                  <a:txBody>
                    <a:bodyPr lIns="64800" rIns="64800" tIns="0" bIns="0" anchor="t">
                      <a:noAutofit/>
                    </a:bodyPr>
                    <a:p>
                      <a:pPr>
                        <a:lnSpc>
                          <a:spcPct val="107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Knows when to stop getting additional sources (e.g., if patient has a list or pill bottles and seems completely reliable and data are not that dissimilar from the other sources, and/or the differences can be explained)</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408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Knows when to get additional sources if available (e.g., if patient is not sure, relying on memory only or cannot resolve discrepancies among the various sources of medication information)</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264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When additional sources are needed, uses available sources ﬁrst (e.g., pill bottles present). Then obtains pharmacy data. If the medication history is still not clear: obtains outpatient provider lists, pill bottles from home and/or other source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920">
                <a:tc>
                  <a:txBody>
                    <a:bodyPr lIns="64800" rIns="64800" tIns="0" bIns="0" anchor="t">
                      <a:noAutofit/>
                    </a:bodyPr>
                    <a:p>
                      <a:pPr>
                        <a:lnSpc>
                          <a:spcPct val="107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Uses resources like Drugs.com to identify loose medications (i.e., for a bag of medications, not in their bottles, provided by a patient)</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9840">
                <a:tc>
                  <a:txBody>
                    <a:bodyPr lIns="64800" rIns="64800" tIns="0" bIns="0" anchor="t">
                      <a:noAutofit/>
                    </a:bodyPr>
                    <a:p>
                      <a:pPr>
                        <a:lnSpc>
                          <a:spcPct val="107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Returns to patient to review new information, resolve all remaining discrepancie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0640">
                <a:tc>
                  <a:txBody>
                    <a:bodyPr lIns="64800" rIns="6480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Gets help from other team members when needed</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6600">
                <a:tc>
                  <a:txBody>
                    <a:bodyPr lIns="64800" rIns="64800" tIns="0" bIns="0" anchor="t">
                      <a:noAutofit/>
                    </a:bodyPr>
                    <a:p>
                      <a:pPr>
                        <a:lnSpc>
                          <a:spcPct val="10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Calibri"/>
                        </a:rPr>
                        <a:t>Educates the patient and/or caregiver of the importance of carrying an accurate and up to date medication list with them</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0" rIns="648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44" name="TextBox 3"/>
          <p:cNvSpPr/>
          <p:nvPr/>
        </p:nvSpPr>
        <p:spPr>
          <a:xfrm>
            <a:off x="762120" y="0"/>
            <a:ext cx="7467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High-Performance Behavi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n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9:57:13Z</dcterms:created>
  <dc:creator>Louis LaPrad</dc:creator>
  <dc:description/>
  <dc:language>en-US</dc:language>
  <cp:lastModifiedBy>Partners Information Systems</cp:lastModifiedBy>
  <dcterms:modified xsi:type="dcterms:W3CDTF">2015-10-13T11:43:53Z</dcterms:modified>
  <cp:revision>576</cp:revision>
  <dc:subject/>
  <dc:title>Slide 1</dc:title>
</cp:coreProperties>
</file>